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68B4-CD8C-4727-8BC0-0B870863E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610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99CD-968B-42D6-8698-4A3C1D7B8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04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801C-64CF-4C84-B72B-3521059A0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32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264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32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264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B342-7821-422D-B877-AAC2CC811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11520"/>
            <a:ext cx="9142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55F6-6747-4AA6-A2AB-C69EE2067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04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9610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04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32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264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32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264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0654-D41E-4000-A51F-80F6009C1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72A6-2BEB-4DC8-B451-5B7B25B62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7CD0-F078-4419-A064-BA95DEE0D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11520"/>
            <a:ext cx="9142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BE55-A293-4338-B3C8-1E1420937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F712-052B-470A-A44F-5A1FC1E2C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04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84E3-59A4-475D-9F94-E80549351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8E21-7943-4B2B-9F80-30147B426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3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A1B23F-8727-4AA1-B1DD-0272B38285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507000"/>
            <a:ext cx="85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Luis To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0960" cy="114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los de Regressão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Outros Modelos baseados em Árv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uis To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torgo@liaad.up.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49280" y="6399000"/>
            <a:ext cx="65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culdade de Economi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dade do 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escolha do melhor teste numérico -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reescrita do cálculo do er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ando esta formulação chega-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44760" y="1736640"/>
                <a:ext cx="49878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409920" y="31860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09760" y="3841920"/>
                <a:ext cx="413208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,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3505320" y="31622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73600" y="3768840"/>
                <a:ext cx="38797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S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515960" y="5627520"/>
                <a:ext cx="6267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R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BC21-336E-4470-9319-75B8B7F19D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escolha do melhor teste numérico –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74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 formulação leva a que o melhor teste seja o que maxim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to permite o uso do seguinte algoritmo incremental (para vars. contínua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 the cases according to their value in 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i="1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i="1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S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; 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estTillNow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l instances 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i="1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S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- 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i="1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1   ; 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-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i="1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+1,</a:t>
            </a:r>
            <a:r>
              <a:rPr b="0" i="1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i="1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i="1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) THE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No trial if values are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SplitValue = (S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/ 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+ (S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/ 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 NewSplitValue &gt; BestTillNow 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estTillNow = NewSplit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estCutPoint = (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i="1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+1,</a:t>
            </a:r>
            <a:r>
              <a:rPr b="0" i="1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i="1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i="1" lang="en-GB" sz="16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2400" y="31860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537000" y="1574640"/>
                <a:ext cx="9954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66F1-1367-4614-913B-3A25609392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escolha do melhor teste numérico - 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7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empl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1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2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Valores da variável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 {9,10,15,16,18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Testes tentad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9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1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1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9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{&lt;9,3,0.3&gt;} e {&lt;10,2,3.2&gt;, &lt;15,-1,5.6&gt;, &lt;16,-2,6.2&gt;, &lt;18,3.4,8&gt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1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{&lt;9,3,0.3&gt;, &lt;10,2,3.2&gt;} e {&lt;15,-1,5.6&gt;, &lt;16,-2,6.2&gt;, &lt;18,3.4,8&gt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1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{&lt;9,3,0.3&gt;, &lt;10,2,3.2&gt;, &lt;15,-1,5.6&gt;} e {&lt;16,-2,6.2&gt;, &lt;18,3.4,8&gt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16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{&lt;9,3,0.3&gt;, &lt;10,2,3.2&gt;, &lt;15,-1,5.6&gt;,&lt;16,-2,6.2&gt;} e{ &lt;18,3.4,8&gt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63000" y="3114720"/>
            <a:ext cx="262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96633"/>
                </a:solidFill>
                <a:latin typeface="Arial"/>
              </a:rPr>
              <a:t>Inicialm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96633"/>
                </a:solidFill>
                <a:latin typeface="Arial"/>
              </a:rPr>
              <a:t>SL=0;nL=0; SR=23.3;nR=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63000" y="3941640"/>
            <a:ext cx="262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96633"/>
                </a:solidFill>
                <a:latin typeface="Arial"/>
              </a:rPr>
              <a:t>SL=0.3;nL=1; SR=23;nR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96633"/>
                </a:solidFill>
                <a:latin typeface="Arial"/>
              </a:rPr>
              <a:t>Valor=132.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62640" y="4551480"/>
            <a:ext cx="279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96633"/>
                </a:solidFill>
                <a:latin typeface="Arial"/>
              </a:rPr>
              <a:t>SL=3.5;nL=2; SR=19.8;nR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cc99"/>
                </a:solidFill>
                <a:latin typeface="Arial"/>
              </a:rPr>
              <a:t>Valor=136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62640" y="5359320"/>
            <a:ext cx="279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96633"/>
                </a:solidFill>
                <a:latin typeface="Arial"/>
              </a:rPr>
              <a:t>SL=9.1;nL=3; SR=14.2;nR=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96633"/>
                </a:solidFill>
                <a:latin typeface="Arial"/>
              </a:rPr>
              <a:t>Valor=128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63000" y="5924520"/>
            <a:ext cx="262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96633"/>
                </a:solidFill>
                <a:latin typeface="Arial"/>
              </a:rPr>
              <a:t>SL=15.3;nL=4; SR=8;nR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96633"/>
                </a:solidFill>
                <a:latin typeface="Arial"/>
              </a:rPr>
              <a:t>Valor=12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94C4-858E-4826-A16F-00E7DFF2502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equências de usar modelo lineares em vez de mé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É necessário um algoritmo incremental semelh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dos dois modelos linear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obtidos respectivamente com os dado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originados pelo test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do um novo test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, em qu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dos os respectivos novos conju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er os novos modelos lineares sem ter que fazer toda a computação necessária para calcular os coeficientes de um modelo linear, isto é usando o cálculo realizado com o conjunto de observações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957320" y="3192480"/>
                <a:ext cx="447192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∪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</m:e>
                            </m:d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:X&gt;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</m:e>
                            </m:d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:X&gt;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A4AC-18D9-447E-913C-55BF4FC834F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abordagem d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[Quinlan, 199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er uma árvore de regressão “standa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ando o método dos mínimos quadrados e assumindo médias nas folh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 altura d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st-pru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siderar a hipótese de substituir uma sub-árvore por um modelo 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 cada nó interi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, obter um modelo linea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.) usando unicamente as variáveis que são testadas na sub-árvo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rque o objectivo é fazer pruning em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sto é substituir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r uma folha com um modelo linear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erro em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é calculado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8960" y="5338800"/>
                <a:ext cx="86932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v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    , em que 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 é o nro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de variáveis em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C216-197B-4F28-B61B-CF80DCF795B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abordagem d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[Quinlan, 1992] -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ois de ter uma estimativa do erro e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é obtida a estimativa para o erro da sub-árvo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É o erro pesado dos erro dos ram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r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r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então faz 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un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stituir a sub-árvo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r uma folha com o model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136600" y="3013200"/>
                <a:ext cx="42991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B947-FD1A-4F11-A6E7-D49CD4A7975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abordagem do RT [Torgo, 199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er uma árvore de regressão “standa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ando ou o método dos mínimos quadrados e assumindo médias nas folhas, ou o método dos desvios absolutos médios e assumindo a mediana nas folh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zer 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st-pru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“normal” usando um qualquer algoritmo d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u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 altura de obter uma previsão para um caso de teste, usar os casos de treino pertencentes à folha a que o caso de teste vai parar para obter uma previsão usando um modelo de regressão lo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CEC2-E87A-4D4C-A786-7D8827D93DD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Árvores de Regressão Loc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ernativas consideradas no sistema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ressã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izinhos mais pró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ressão linear lo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os parcialmente line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po de aproximação destas árv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28840" y="2638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28840" y="2638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28840" y="2619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38240" y="2529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30200" y="3379680"/>
            <a:ext cx="8089920" cy="276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4DB2-4C71-46AC-81D2-55A3B5E3C1D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331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7025" t="10232" r="2940" b="8558"/>
          <a:stretch/>
        </p:blipFill>
        <p:spPr>
          <a:xfrm>
            <a:off x="395280" y="1554120"/>
            <a:ext cx="4510080" cy="2654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7025" t="10232" r="2940" b="8558"/>
          <a:stretch/>
        </p:blipFill>
        <p:spPr>
          <a:xfrm>
            <a:off x="4873680" y="1446120"/>
            <a:ext cx="4645080" cy="2735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7025" t="7978" r="3321" b="8558"/>
          <a:stretch/>
        </p:blipFill>
        <p:spPr>
          <a:xfrm>
            <a:off x="4964040" y="3957480"/>
            <a:ext cx="4695840" cy="2830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238560" y="26290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rcRect l="7467" t="8666" r="3382" b="9152"/>
          <a:stretch/>
        </p:blipFill>
        <p:spPr>
          <a:xfrm>
            <a:off x="360360" y="4059360"/>
            <a:ext cx="4424400" cy="26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CBBB2-5091-4C18-AF32-F3CD7E3AA44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clusões principais de uma comparação com as árvores “standar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ro de previsão quase invariavelmente bastante inf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ores custos comput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, inferiores a usar regressão local (fora do contexto das árvor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nor compreensibilidade dos mod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1320" y="25239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81320" y="25239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81320" y="25239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C19B-6593-4C27-83C3-84DE2170269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Árvores de Regressão standard</a:t>
            </a:r>
            <a:br>
              <a:rPr sz="32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incipais desvanta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roximação obtida pelos modelos com fortes descontinu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partições obtidas são “estanques”, e não há “ligação” entre e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 modelo obtido para cada partição é obtido independentemente dos modelos das partições vizin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roximação pouco “suav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 usar valores constantes como modelo dos dados em cada partição originamos uma aproximação pouco su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 termos de erro é possível obter melhores resultados em certo tipo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 domínios sem fortes descontinuidades e com uma superfície suave a aproximação obtida pelas árvores standard origina erros de previsão gran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41EA-0939-4E8F-B665-232B9B0A32F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s custos de interpretabilidade das árvores de regressão loc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caso das árvores com modelos “completamente locais” nas folhas as percas de compreensibilidade são significativas, pois a árvore só pode ser vista como uma aproximação muito superficial do modelo realmente usado para as previs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caso das árvores parcialmente lineares (Torgo, 2000) a perca não é tão grande pela componente interpretável dos modelos parcialmente line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derão mesmo ter vantagens em domínios altamente não-lineares quando comparadas como o uso de um modelo parcialmente lin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80C9-CE88-468C-8682-1061F716EA9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31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311120"/>
          <a:ext cx="4687920" cy="480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1120"/>
                    <a:ext cx="4687920" cy="48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37080" y="1316160"/>
          <a:ext cx="4606920" cy="431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7080" y="1316160"/>
                    <a:ext cx="460692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33E7-2701-4A73-8F10-3647603B5623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gumas abordagens a estas dificul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ft Thres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teste nos nós são analisados de uma forma probabilística em vez de boole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Árvores com modelos mais sofisticados nas fol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os de regressão linear múlti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os de regressão local nas fol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o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os de regressão linear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os parcialmente line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43D7-1A74-4752-9289-17EF6DC7DEC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técnica d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mooth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ada no M5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Quinlan, 1990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do um caso de teste, em vez de usar o valor médio da folha a que o caso “chega” como previsão, fazer uma média pesada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moot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dos valores médios ao longo dos nós que o caso “percorr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órmula usada 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 qu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é o valor passado para cima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é o valor passado para o nó actual pelo nó de baixo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é o valor previsto neste nó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é o número de casos no nó de baixo 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é uma constante d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mooth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um parâmet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182760" y="3511440"/>
                <a:ext cx="17924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p+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+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92D0-595B-470C-A0EB-68A3B075AC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Árvores de Regressão mais “sofisticad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Árvores com modelos de regressão linear nas folh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5 (Quinlan, 1992), RETIS (199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Árvores com modelos modelos locais nas folh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 (Torgo, 1999, 2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lhoramentos significativos no erro de previ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mento do tempo de comput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inuição da interpretabilidade dos mode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92240" y="4983120"/>
            <a:ext cx="8817120" cy="1554120"/>
            <a:chOff x="192240" y="4983120"/>
            <a:chExt cx="8817120" cy="1554120"/>
          </a:xfrm>
        </p:grpSpPr>
        <p:sp>
          <p:nvSpPr>
            <p:cNvPr id="91" name=""/>
            <p:cNvSpPr/>
            <p:nvPr/>
          </p:nvSpPr>
          <p:spPr>
            <a:xfrm>
              <a:off x="230040" y="4983120"/>
              <a:ext cx="8779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aralic,A. (1992) : Employing linear regression in regression tree leaves. Proceedins of the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 European Conference on Artificial Intellig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Quinlan, J. (1992) : Learning with continuous classes. Proceedings of the Australian Joint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 Conference on Artificial Intellig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orgo,L. (1999) :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“Inductive Learning of Tree-based Regression Models”. www.liaad.up.pt/~ltorgo/Ph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orgo, L. (2000) : Partial linear trees. 17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International conference on machine learn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2240" y="5013360"/>
              <a:ext cx="8329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CCAA-14C5-4622-BA5A-F76411EFE44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Árvores com outro tipo de modelos nas folhas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questões cru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ses do crescimento que são influenc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colha do melhor t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ação das folh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scolha do melhor t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izando para outro tipo de modelos tem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9320" y="3218040"/>
                <a:ext cx="3752640" cy="97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032360" y="3141720"/>
                <a:ext cx="51116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,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´Er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´Er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282920" y="2460600"/>
                <a:ext cx="4280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,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,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247840" y="5159520"/>
                <a:ext cx="43117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F357-01B8-4E36-839C-AD69CA042E9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abordagem d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ET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Karalic, 199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a a estratégia teoricamente mais correc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procura pelo melhor teste é usado o modelo que de facto vai ser usado nas folhas, neste caso modelos de regressão lin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rtanto o erro de um nó é dado po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 qu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.) é o modelo linear obtido com os casos no nó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equ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 avaliar cada teste candidato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para um nó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é necessário obter os modelos lineares tanto do  próprio nó como das partições originadas pelo teste, p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432080" y="2813040"/>
                <a:ext cx="43113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770200" y="5899320"/>
                <a:ext cx="40212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,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,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B6D2-A489-4679-A3C7-1CFE02CB25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eficiência computacional da escolha do melhor t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Algoritmo d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cursive Partition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visit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termination criterion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Leaf Node and assign it the average 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of the 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eaf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GB" sz="1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&lt;arbitrary spli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l variables 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 a nominal variable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estSplitXv = TryAllNominalSplits({&lt;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}, 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 a numeric variable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estSplitXv = TryAllNumericSplits({&lt;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}, 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v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BestSplitXv is better than s</a:t>
            </a:r>
            <a:r>
              <a:rPr b="0" lang="en-GB" sz="1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GB" sz="1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BestSplitX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Node t with s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_branch(t) = GrowLStree({&lt;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* }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_branch(t) = GrowLStree({&lt;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i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s* }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Node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3DC5-D85A-4698-9349-9E4B6DE9103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escolha do melhor teste numérico</a:t>
            </a:r>
            <a:br>
              <a:rPr sz="32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ma optimização computacional (Torgo, 1999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scolha do melhor teste para um nó é guiada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 por sua vez envol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12920" y="1744560"/>
                <a:ext cx="40212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,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,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792520" y="2936880"/>
                <a:ext cx="33415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6120" y="4489560"/>
                <a:ext cx="51120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,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´Er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´Er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 flipV="1">
            <a:off x="4094280" y="4052880"/>
            <a:ext cx="199800" cy="620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405040" y="4173120"/>
            <a:ext cx="420840" cy="5000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92360" y="5732640"/>
                <a:ext cx="784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045120" y="5826240"/>
                <a:ext cx="7844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047000" y="2870280"/>
                <a:ext cx="712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H="1">
            <a:off x="3497400" y="5367240"/>
            <a:ext cx="241200" cy="3571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64120" y="5288040"/>
            <a:ext cx="336600" cy="3571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221520" y="3177720"/>
            <a:ext cx="676080" cy="2034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625F-FA6B-4052-9E94-E887EA148E7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is Torgo</dc:creator>
  <dc:description/>
  <dc:language>en-US</dc:language>
  <cp:lastModifiedBy>Luis Torgo</cp:lastModifiedBy>
  <cp:revision>0</cp:revision>
  <dc:subject/>
  <dc:title>Bases de Dados</dc:title>
</cp:coreProperties>
</file>