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342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9D4B0-EE23-47B5-8F90-B5CD965A4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962160"/>
            <a:ext cx="9144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A415C-7E86-4C90-8FBC-06D5A5F3A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96216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96216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A62F1-7121-4CD7-B343-F3C7EF8F3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962160"/>
            <a:ext cx="2944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962160"/>
            <a:ext cx="2944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962160"/>
            <a:ext cx="2944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17D07-4952-42DD-A560-16E06518B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115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96216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C9576-58F8-41B0-BDEB-DE81576B6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96216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962160"/>
            <a:ext cx="9144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962160"/>
            <a:ext cx="9144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96216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96216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962160"/>
            <a:ext cx="2944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962160"/>
            <a:ext cx="2944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962160"/>
            <a:ext cx="2944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991B0-626D-42F3-83B4-73F366503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5C855-AF62-4AF1-BF54-3C3BB3606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94523-8EE9-4717-BCEB-9BF09CA67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115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36F8D-51BA-485C-B865-C36FA6455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96216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7586A-7AE8-4331-B1E1-F71C81DD2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96216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28206-F63F-4685-AB6B-F96C0C450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962160"/>
            <a:ext cx="9144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F649D-771D-446E-BAA4-AA552347C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7920" y="6477120"/>
            <a:ext cx="44960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Extracção de Conhecimento de Dados I (v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625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1AAF-ABE1-4FD3-A8DD-3B57683010C8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6507000"/>
            <a:ext cx="85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uis To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éries Tempor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Luis To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ltorgo@liacc.up.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Extracção de Conhecimento de Dados -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43560" y="69480"/>
            <a:ext cx="71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TRADO EM ANÁLISE DE DADOS E SISTEMAS E APOIO À DEC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49280" y="6399000"/>
            <a:ext cx="65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uldade de Econom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do P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 modelo Holt-W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édias móveis exponenciais generalizadas para lidar com séries temporais com tendência e sazonal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equações do modelo dependem do tipo de sazon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sazonalidade multiplicativa ocorre quando os efeitos sazonais aumentam com o aumento do valor médio da sér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sazonalidade aditiva ocorre quando o efeito sazonal é constante (adicionando-se simplesmente ao valor da sér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31640" y="3770280"/>
                <a:ext cx="8425080" cy="26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m que,</m:t>
                            </m:r>
                          </m:e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α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β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para efeitos sazonais aditivos de período 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      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s</m:t>
                        </m:r>
                      </m:e>
                    </m:acc>
                    <m:sSub>
                      <m:e/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para efeitos sazonais multiplicativos de período 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D5FF0-08F8-477B-BFF4-A778354C4F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ras abordagens às séries tempor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ma série temporal pode ser vista como um sistema dinâm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estado de um sistema dinâmico determinístic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 na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informação necessária para determinar a sua evolução fu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abendo o estado actual basta procurar no passado estados iguais para sabermos o estado futu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esta abordagem à previsão em séries temporais o problema é dividido em duas par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Um problema de repres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o descrever o estado do sistema de modo a ter informação suficiente sobre a sua dinâ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Um problema de modelação de uma função que dado um estado produz ou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o modelar o problema neste novo sistema de coordenadas (os est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F1A2C-3D61-4287-96EA-9650570BDD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Times New Roman"/>
              </a:rPr>
              <a:t>Time-delay embed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ma solução elegante para o problema de representação é o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time-delay embedding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ada estado da série temporal é identificado por um vector de valores no espaço </a:t>
            </a:r>
            <a:r>
              <a:rPr b="0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0" i="1" lang="pt-PT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m exemplo si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, 7, 9, 12, 56, 67, 8, 23, 56, 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É transformada nos estados (assumindo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=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, 7, 9, 12, 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7, 9, 12, 56, 67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ntro desta representação o nosso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9, 12, 56, 67, 8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ssa a ser aproximar uma função </a:t>
            </a:r>
            <a:r>
              <a:rPr b="0" lang="pt-PT" sz="18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t-PT" sz="18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0" lang="pt-PT" sz="1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pt-P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2, 56, 67, 8, 23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u seja um problema de regressão múltip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6, 67, 8, 23, 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7, 8, 23, 56, 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156FD-3DAF-4271-84A8-1853C61615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ções mais “sofisticad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ar variáveis para descrever o estado que em vez de representarem um único valor da série num temp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lquer, incorporam mais “informação” sobre a dinâmica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çõ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ariações percentu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á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édias Mó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ê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467080" y="2997360"/>
                <a:ext cx="17794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409840" y="3475080"/>
                <a:ext cx="15638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050840" y="4619520"/>
                <a:ext cx="25164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894120" y="4484520"/>
                <a:ext cx="51544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M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MM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M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589040" y="5754600"/>
                <a:ext cx="24447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03720" y="5718240"/>
                <a:ext cx="34228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840280" y="3268800"/>
                <a:ext cx="17989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5C7DD-5720-45D5-B450-158A342B35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Avaliação de modelos de previsão para séries tempor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is tipos de previ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ã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óximo tempo” (</a:t>
            </a: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one-step-ahead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adas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bservações da série prever o próximo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erativa (</a:t>
            </a: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itera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previsão do próximo valor é re-alimentada no modelo para fazer previsões para “tempos mais à frent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erro quadrado rel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Theil’s U-stat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730760" y="3351240"/>
                <a:ext cx="335592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MS {</m:t>
                        </m:r>
                        <m:r>
                          <m:t xml:space="preserve">E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r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112840" y="4527720"/>
                <a:ext cx="3090960" cy="19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t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r</m:t>
                                            </m:r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t</m:t>
                                                    </m:r>
                                                  </m:sub>
                                                </m:sSub>
                                              </m:e>
                                            </m:d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t</m:t>
                                                </m:r>
                                                <m:r>
                                                  <m:t xml:space="preserve">−</m:t>
                                                </m:r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t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t</m:t>
                                                </m:r>
                                                <m:r>
                                                  <m:t xml:space="preserve">−</m:t>
                                                </m:r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t</m:t>
                                                </m:r>
                                                <m:r>
                                                  <m:t xml:space="preserve">−</m:t>
                                                </m:r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1FD72-8D07-44C0-B95E-F23567D98D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m setup experimental para construção de modelos para prever séries tempor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4795920"/>
            <a:ext cx="44956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75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7517"/>
                </a:solidFill>
                <a:latin typeface="Arial"/>
              </a:rPr>
              <a:t>1o P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ter os modelo alternativos com os dados até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aliá-los no período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s+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colher o “melh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4795920"/>
            <a:ext cx="44956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75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7517"/>
                </a:solidFill>
                <a:latin typeface="Arial"/>
              </a:rPr>
              <a:t>2o P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ter o “melhor” modelo com os dados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ter estimativas fiáveis da performance do modelo usando os dados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GB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209680"/>
            <a:ext cx="76964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4267080" y="-1905120"/>
            <a:ext cx="304920" cy="7620120"/>
          </a:xfrm>
          <a:custGeom>
            <a:avLst/>
            <a:gdLst>
              <a:gd name="textAreaLeft" fmla="*/ 0 w 304920"/>
              <a:gd name="textAreaRight" fmla="*/ 110160 w 304920"/>
              <a:gd name="textAreaTop" fmla="*/ 198720 h 7620120"/>
              <a:gd name="textAreaBottom" fmla="*/ 7421400 h 762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126036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dos disponí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840" y="23004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25040" y="2286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2209680"/>
            <a:ext cx="0" cy="243864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75240" y="3809880"/>
            <a:ext cx="16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eríodo final d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vali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209680"/>
            <a:ext cx="0" cy="1524240"/>
          </a:xfrm>
          <a:prstGeom prst="line">
            <a:avLst/>
          </a:prstGeom>
          <a:ln w="28440">
            <a:solidFill>
              <a:srgbClr val="ff7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61920" y="2843280"/>
            <a:ext cx="1785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eríodo usado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ara selecção 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unning de mode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07520" y="281952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dos usados para obter modelo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ltern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05160" y="3943440"/>
            <a:ext cx="44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dos usados para obter/escolher  um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2209680"/>
            <a:ext cx="0" cy="243864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05920" y="2209680"/>
            <a:ext cx="0" cy="243864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74160" y="289548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74160" y="385452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6520" y="2286000"/>
            <a:ext cx="35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6360" y="228600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90720" y="1600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18080" y="1600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46880" y="1600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35BD7-DE8A-4A46-A8AC-47C90E22C4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éries tempo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Dados com etiquetas tempor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Relevância da ord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Uma ou várias variáveis a “evoluir” ao longo de um período de t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pt-PT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pt-PT" sz="18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pt-PT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pt-PT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pt-PT" sz="18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pt-PT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PT" sz="18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pt-PT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pt-PT" sz="18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pt-PT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PT" sz="1800" spc="-1" strike="noStrike" baseline="-25000">
                <a:solidFill>
                  <a:srgbClr val="000000"/>
                </a:solidFill>
                <a:latin typeface="Arial"/>
              </a:rPr>
              <a:t>+2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pt-PT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pt-PT" sz="18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pt-P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pt-PT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pt-PT" sz="18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pt-P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pt-PT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análise de séries tempo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bjectivos princip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evisão da evolução da sé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preensão do modelo que descreve o comportamento do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écnicas “clássica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odelos auto regres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O próximo valor é uma “média pesada” das observações anteri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14699-68DE-4271-8421-6246EBC91E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bordagens “Clássicas” às Séries Tempor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eoria clássica anda à volta de duas noções bás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ear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 modelo que rege o comportamento da série é uma função linear dos valores anteriores da sér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cionar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equações que regem esse comportamento não variam com o t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ão existe uma mudança sistemática do valor médio da série (não há tendênci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ão há uma mudança sistemática da variância da sér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das as variações periódicas foram removidas (sazonal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aioria dos métodos “clássicos” assumem que a série é estacionária pelo que normalmente é necessário fazer transformanções à série original para ir de encontro a este requis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B9EF1-AF91-4459-8A22-0D890A48E8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riedades de segunda ordem das sé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ste um padrão temporal na sér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o é qu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 relaciona com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 mais genericamente: Como é qu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 relaciona com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noções de auto-correlação e auto-covari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o-covariâ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o-correl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523880" y="3286080"/>
                <a:ext cx="58420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uto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933560" y="4734000"/>
                <a:ext cx="48481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uto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d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99C8D-4717-45BA-B59E-B3C4D79B6C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m exemplo de uma série temporal e a sua auto-correl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1704960"/>
            <a:ext cx="3757320" cy="3751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495680" y="1709640"/>
            <a:ext cx="3757680" cy="375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2AC8F-BF27-4EDA-873C-B664AE4F4D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édias Móveis (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ar a média do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últimos periodos para prever o valor no próximo peri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838080" y="3352680"/>
                <a:ext cx="243864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133880" y="1741320"/>
            <a:ext cx="4506840" cy="450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82899-2A36-46F9-9401-773442F1DC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édias Móveis Exponenci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melhantes às médias móveis mas dando mais importância aos valores mais recentes da sé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28600" y="2955960"/>
                <a:ext cx="41274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MA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MA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MA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506840" cy="450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51A7F-7491-46ED-A442-2946C3ED34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los Auto-regressivos (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 modelo linear usando os últimos valores da sé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63400" y="2971800"/>
                <a:ext cx="32148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55920" y="1676520"/>
            <a:ext cx="4507200" cy="450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9DA5F-E92A-45F9-886E-EF17C79F87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los ARMA e AR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 modelo ARMA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integra um modelo AR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com um modelo MA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séries temporais são frequentemente não-estacionárias. Nestes casos é comum usarem-se as diferenças entre os valores da série como série a model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modelo resultante é um modelo ARIMA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, que basicamente representa um modelo ARMA sobre as diferenças de ordem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432160" y="4105440"/>
                <a:ext cx="2971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∇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15FEB-BECE-4CA4-A212-372A6071B5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10:44:54Z</dcterms:created>
  <dc:creator>Luis Torgo</dc:creator>
  <dc:description/>
  <dc:language>en-US</dc:language>
  <cp:lastModifiedBy>ltorgo</cp:lastModifiedBy>
  <dcterms:modified xsi:type="dcterms:W3CDTF">2004-12-03T18:41:00Z</dcterms:modified>
  <cp:revision>205</cp:revision>
  <dc:subject/>
  <dc:title>Bases de Dados</dc:title>
</cp:coreProperties>
</file>