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C275F-610C-4219-8916-ADBA2C20D3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25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961080"/>
            <a:ext cx="91425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0A7D2-1599-4435-9B44-98FB9FC37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04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9610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040" y="39610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A4CAD-5F3F-483C-BDF2-2AAAA4DA3C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320" y="12952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2640" y="12952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9610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320" y="39610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2640" y="39610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ABF24-7124-4673-A1CB-891A448EE7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2560" cy="51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256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14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5040" y="1295280"/>
            <a:ext cx="44614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-11520"/>
            <a:ext cx="91425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040" y="1295280"/>
            <a:ext cx="44614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0" y="39610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2560" cy="51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189B8-9548-4DE4-857D-6AD587BBC9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14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04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5040" y="39610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04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961080"/>
            <a:ext cx="91425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25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0" y="3961080"/>
            <a:ext cx="91425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04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9610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5040" y="39610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91320" y="12952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2640" y="12952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0" y="39610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91320" y="39610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82640" y="3961080"/>
            <a:ext cx="294372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256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20CA4-E76F-4BDB-98B3-3837BA5E98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14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040" y="1295280"/>
            <a:ext cx="44614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3BF56-2D11-42D6-9475-4078129667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6DE83-0292-452C-BBA0-9C5DDBFE28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11520"/>
            <a:ext cx="91425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12963-3C50-4938-952D-A8065DD6CE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040" y="1295280"/>
            <a:ext cx="44614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9610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EF214-84FE-47F7-A76D-0EB0A1ADD6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148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04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040" y="39610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AB7AC-4227-4D57-850C-5FAA72B708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040" y="1295280"/>
            <a:ext cx="44614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961080"/>
            <a:ext cx="91425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9FDFD-7DB8-48CD-90C0-560449A2BF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2560" cy="1141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256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162560" y="6477120"/>
            <a:ext cx="19033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E9D94E-89CF-4043-8FDF-40DD9091DA9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320" y="6507000"/>
            <a:ext cx="85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Luis Tor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0960" cy="1141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elos de Regressão</a:t>
            </a: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Árvores de Regressã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uis Tor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torgo@liaad.up.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49280" y="6399000"/>
            <a:ext cx="65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aculdade de Economi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iversidade do Por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Que testes são tentado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ariáveis numér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eçar por ordenar os valores na variável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ntar todos os valores intermédios dos casos do nó para avaliar os testes com a form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al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28240" y="3382920"/>
            <a:ext cx="629028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 PL ShanHeiSun Uni"/>
              </a:rPr>
              <a:t>Exempl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1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2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Valores da variável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: {9,10,15,16,18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0.3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Testes tentado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6.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9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.4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12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 PL ShanHeiSun Un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 PL ShanHeiSun Un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 PL ShanHeiSun Un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 PL ShanHeiSun Un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 PL ShanHeiSun Uni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AR PL ShanHeiSun Uni"/>
              </a:rPr>
              <a:t>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  <a:ea typeface="AR PL ShanHeiSun Uni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 PL ShanHeiSun Un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 PL ShanHeiSun Uni"/>
              </a:rPr>
              <a:t> 15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 PL ShanHeiSun Un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 PL ShanHeiSun Un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 PL ShanHeiSun Un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 PL ShanHeiSun Un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 PL ShanHeiSun Uni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AR PL ShanHeiSun Uni"/>
              </a:rPr>
              <a:t>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  <a:ea typeface="AR PL ShanHeiSun Uni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 PL ShanHeiSun Un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 PL ShanHeiSun Uni"/>
              </a:rPr>
              <a:t> 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2DE2C-DDF4-4592-96B8-FB83A08A9AF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Que testes são tentados ?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(continuação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3741480"/>
            <a:ext cx="91440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xemplo :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lores médios 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117960" y="4200480"/>
                <a:ext cx="60260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2765520" y="5641920"/>
            <a:ext cx="590364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41240"/>
                <a:tab algn="l" pos="1655640"/>
                <a:tab algn="l" pos="2570040"/>
                <a:tab algn="l" pos="3484440"/>
                <a:tab algn="l" pos="4398840"/>
                <a:tab algn="l" pos="5313240"/>
                <a:tab algn="l" pos="6227640"/>
                <a:tab algn="l" pos="7142040"/>
                <a:tab algn="l" pos="8056440"/>
                <a:tab algn="l" pos="8970840"/>
                <a:tab algn="l" pos="9885240"/>
                <a:tab algn="l" pos="107996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estes tentados :    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 {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}    e     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 {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9760" y="1160640"/>
            <a:ext cx="8512200" cy="24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ariáveis nomi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800" indent="-12204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 PL ShanHeiSun Uni"/>
              </a:rPr>
              <a:t>São tentadas partições dos valores da variável com a forma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AR PL ShanHeiSun Uni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 PL ShanHeiSun Un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 PL ShanHeiSun Uni"/>
              </a:rPr>
              <a:t>{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AR PL ShanHeiSun Uni"/>
              </a:rPr>
              <a:t>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  <a:ea typeface="AR PL ShanHeiSun Uni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 PL ShanHeiSun Uni"/>
              </a:rPr>
              <a:t>,…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800" indent="-12204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 PL ShanHeiSun Uni"/>
              </a:rPr>
              <a:t>Breima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AR PL ShanHeiSun Uni"/>
              </a:rPr>
              <a:t>et al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 PL ShanHeiSun Uni"/>
              </a:rPr>
              <a:t> (1984) provaram que não é necessário tentar todas as partições, o que teria uma complexidade computacional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AR PL ShanHeiSun Uni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 PL ShanHeiSun Uni"/>
              </a:rPr>
              <a:t>(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AR PL ShanHeiSun Uni"/>
              </a:rPr>
              <a:t>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 PL ShanHeiSun Un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800" indent="-12204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 PL ShanHeiSun Uni"/>
              </a:rPr>
              <a:t>O teorema provado por estes autores reduz a complexidade de encontrar o melhor teste nominal para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AR PL ShanHeiSun Uni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 PL ShanHeiSun Uni"/>
              </a:rPr>
              <a:t>(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00440" y="4846680"/>
            <a:ext cx="4545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41240"/>
                <a:tab algn="l" pos="1655640"/>
                <a:tab algn="l" pos="2570040"/>
                <a:tab algn="l" pos="3484440"/>
                <a:tab algn="l" pos="4398840"/>
                <a:tab algn="l" pos="5313240"/>
                <a:tab algn="l" pos="6227640"/>
                <a:tab algn="l" pos="7142040"/>
                <a:tab algn="l" pos="8056440"/>
                <a:tab algn="l" pos="8970840"/>
                <a:tab algn="l" pos="9885240"/>
                <a:tab algn="l" pos="107996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Ordenação dos valores : {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} po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292640" y="5154480"/>
                <a:ext cx="15634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291960" y="6195960"/>
            <a:ext cx="83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reiman,L., Friedman,J., Stone,C., Olshen,R. (1984): Classification and Regression Tre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6880" y="6146640"/>
            <a:ext cx="779148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1DD18-388C-4CC2-B645-149F403C5B3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itérios de Parag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problema das amostras peque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orme vamos crescendo a árvore cada vez são men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90480" y="2655720"/>
            <a:ext cx="7406280" cy="1405080"/>
            <a:chOff x="690480" y="2655720"/>
            <a:chExt cx="7406280" cy="1405080"/>
          </a:xfrm>
        </p:grpSpPr>
        <p:sp>
          <p:nvSpPr>
            <p:cNvPr id="149" name=""/>
            <p:cNvSpPr/>
            <p:nvPr/>
          </p:nvSpPr>
          <p:spPr>
            <a:xfrm>
              <a:off x="2895480" y="2655720"/>
              <a:ext cx="1648080" cy="1405080"/>
            </a:xfrm>
            <a:custGeom>
              <a:avLst/>
              <a:gdLst/>
              <a:ahLst/>
              <a:rect l="l" t="t" r="r" b="b"/>
              <a:pathLst>
                <a:path w="1038" h="885">
                  <a:moveTo>
                    <a:pt x="390" y="61"/>
                  </a:moveTo>
                  <a:cubicBezTo>
                    <a:pt x="319" y="69"/>
                    <a:pt x="256" y="82"/>
                    <a:pt x="186" y="94"/>
                  </a:cubicBezTo>
                  <a:cubicBezTo>
                    <a:pt x="159" y="113"/>
                    <a:pt x="152" y="129"/>
                    <a:pt x="142" y="160"/>
                  </a:cubicBezTo>
                  <a:cubicBezTo>
                    <a:pt x="129" y="249"/>
                    <a:pt x="91" y="325"/>
                    <a:pt x="38" y="397"/>
                  </a:cubicBezTo>
                  <a:cubicBezTo>
                    <a:pt x="15" y="548"/>
                    <a:pt x="0" y="683"/>
                    <a:pt x="120" y="788"/>
                  </a:cubicBezTo>
                  <a:cubicBezTo>
                    <a:pt x="147" y="812"/>
                    <a:pt x="181" y="836"/>
                    <a:pt x="219" y="837"/>
                  </a:cubicBezTo>
                  <a:cubicBezTo>
                    <a:pt x="311" y="840"/>
                    <a:pt x="402" y="841"/>
                    <a:pt x="494" y="843"/>
                  </a:cubicBezTo>
                  <a:cubicBezTo>
                    <a:pt x="621" y="885"/>
                    <a:pt x="537" y="866"/>
                    <a:pt x="753" y="854"/>
                  </a:cubicBezTo>
                  <a:cubicBezTo>
                    <a:pt x="772" y="779"/>
                    <a:pt x="781" y="729"/>
                    <a:pt x="792" y="645"/>
                  </a:cubicBezTo>
                  <a:cubicBezTo>
                    <a:pt x="795" y="622"/>
                    <a:pt x="817" y="603"/>
                    <a:pt x="836" y="590"/>
                  </a:cubicBezTo>
                  <a:cubicBezTo>
                    <a:pt x="855" y="577"/>
                    <a:pt x="902" y="568"/>
                    <a:pt x="902" y="568"/>
                  </a:cubicBezTo>
                  <a:cubicBezTo>
                    <a:pt x="906" y="557"/>
                    <a:pt x="905" y="543"/>
                    <a:pt x="913" y="535"/>
                  </a:cubicBezTo>
                  <a:cubicBezTo>
                    <a:pt x="921" y="527"/>
                    <a:pt x="936" y="529"/>
                    <a:pt x="946" y="524"/>
                  </a:cubicBezTo>
                  <a:cubicBezTo>
                    <a:pt x="1024" y="484"/>
                    <a:pt x="901" y="529"/>
                    <a:pt x="1001" y="496"/>
                  </a:cubicBezTo>
                  <a:cubicBezTo>
                    <a:pt x="1016" y="452"/>
                    <a:pt x="1019" y="408"/>
                    <a:pt x="1034" y="364"/>
                  </a:cubicBezTo>
                  <a:cubicBezTo>
                    <a:pt x="1030" y="298"/>
                    <a:pt x="1038" y="230"/>
                    <a:pt x="1023" y="166"/>
                  </a:cubicBezTo>
                  <a:cubicBezTo>
                    <a:pt x="1008" y="101"/>
                    <a:pt x="904" y="94"/>
                    <a:pt x="858" y="89"/>
                  </a:cubicBezTo>
                  <a:cubicBezTo>
                    <a:pt x="745" y="54"/>
                    <a:pt x="821" y="79"/>
                    <a:pt x="748" y="34"/>
                  </a:cubicBezTo>
                  <a:cubicBezTo>
                    <a:pt x="725" y="20"/>
                    <a:pt x="699" y="16"/>
                    <a:pt x="676" y="1"/>
                  </a:cubicBezTo>
                  <a:cubicBezTo>
                    <a:pt x="614" y="5"/>
                    <a:pt x="451" y="0"/>
                    <a:pt x="390" y="61"/>
                  </a:cubicBez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14920" y="3030480"/>
              <a:ext cx="816120" cy="727200"/>
            </a:xfrm>
            <a:custGeom>
              <a:avLst/>
              <a:gdLst/>
              <a:ahLst/>
              <a:rect l="l" t="t" r="r" b="b"/>
              <a:pathLst>
                <a:path w="514" h="458">
                  <a:moveTo>
                    <a:pt x="169" y="40"/>
                  </a:moveTo>
                  <a:cubicBezTo>
                    <a:pt x="165" y="47"/>
                    <a:pt x="160" y="54"/>
                    <a:pt x="158" y="62"/>
                  </a:cubicBezTo>
                  <a:cubicBezTo>
                    <a:pt x="154" y="80"/>
                    <a:pt x="158" y="100"/>
                    <a:pt x="152" y="117"/>
                  </a:cubicBezTo>
                  <a:cubicBezTo>
                    <a:pt x="150" y="122"/>
                    <a:pt x="115" y="139"/>
                    <a:pt x="114" y="139"/>
                  </a:cubicBezTo>
                  <a:cubicBezTo>
                    <a:pt x="101" y="144"/>
                    <a:pt x="75" y="150"/>
                    <a:pt x="75" y="150"/>
                  </a:cubicBezTo>
                  <a:cubicBezTo>
                    <a:pt x="52" y="166"/>
                    <a:pt x="40" y="191"/>
                    <a:pt x="20" y="211"/>
                  </a:cubicBezTo>
                  <a:cubicBezTo>
                    <a:pt x="4" y="262"/>
                    <a:pt x="0" y="333"/>
                    <a:pt x="48" y="365"/>
                  </a:cubicBezTo>
                  <a:cubicBezTo>
                    <a:pt x="48" y="365"/>
                    <a:pt x="103" y="392"/>
                    <a:pt x="114" y="398"/>
                  </a:cubicBezTo>
                  <a:cubicBezTo>
                    <a:pt x="121" y="402"/>
                    <a:pt x="136" y="409"/>
                    <a:pt x="136" y="409"/>
                  </a:cubicBezTo>
                  <a:cubicBezTo>
                    <a:pt x="193" y="405"/>
                    <a:pt x="234" y="392"/>
                    <a:pt x="284" y="409"/>
                  </a:cubicBezTo>
                  <a:cubicBezTo>
                    <a:pt x="300" y="458"/>
                    <a:pt x="307" y="453"/>
                    <a:pt x="356" y="442"/>
                  </a:cubicBezTo>
                  <a:cubicBezTo>
                    <a:pt x="367" y="425"/>
                    <a:pt x="372" y="409"/>
                    <a:pt x="383" y="392"/>
                  </a:cubicBezTo>
                  <a:cubicBezTo>
                    <a:pt x="396" y="346"/>
                    <a:pt x="367" y="276"/>
                    <a:pt x="400" y="244"/>
                  </a:cubicBezTo>
                  <a:cubicBezTo>
                    <a:pt x="420" y="224"/>
                    <a:pt x="442" y="219"/>
                    <a:pt x="460" y="194"/>
                  </a:cubicBezTo>
                  <a:cubicBezTo>
                    <a:pt x="469" y="144"/>
                    <a:pt x="489" y="143"/>
                    <a:pt x="510" y="101"/>
                  </a:cubicBezTo>
                  <a:cubicBezTo>
                    <a:pt x="506" y="86"/>
                    <a:pt x="514" y="60"/>
                    <a:pt x="499" y="57"/>
                  </a:cubicBezTo>
                  <a:cubicBezTo>
                    <a:pt x="243" y="0"/>
                    <a:pt x="395" y="55"/>
                    <a:pt x="301" y="84"/>
                  </a:cubicBezTo>
                  <a:cubicBezTo>
                    <a:pt x="251" y="78"/>
                    <a:pt x="246" y="77"/>
                    <a:pt x="218" y="34"/>
                  </a:cubicBezTo>
                  <a:cubicBezTo>
                    <a:pt x="209" y="20"/>
                    <a:pt x="185" y="38"/>
                    <a:pt x="169" y="40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21200" y="3030480"/>
              <a:ext cx="1687320" cy="360360"/>
            </a:xfrm>
            <a:custGeom>
              <a:avLst/>
              <a:gdLst/>
              <a:ahLst/>
              <a:rect l="l" t="t" r="r" b="b"/>
              <a:pathLst>
                <a:path w="1063" h="227">
                  <a:moveTo>
                    <a:pt x="0" y="227"/>
                  </a:moveTo>
                  <a:cubicBezTo>
                    <a:pt x="158" y="147"/>
                    <a:pt x="316" y="68"/>
                    <a:pt x="441" y="34"/>
                  </a:cubicBezTo>
                  <a:cubicBezTo>
                    <a:pt x="566" y="0"/>
                    <a:pt x="645" y="5"/>
                    <a:pt x="749" y="23"/>
                  </a:cubicBezTo>
                  <a:cubicBezTo>
                    <a:pt x="853" y="41"/>
                    <a:pt x="958" y="93"/>
                    <a:pt x="1063" y="145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9560" y="3201840"/>
              <a:ext cx="153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A nossa amost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0480" y="3162240"/>
              <a:ext cx="217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O “universo” dos da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11640" y="3052800"/>
              <a:ext cx="815760" cy="727200"/>
            </a:xfrm>
            <a:custGeom>
              <a:avLst/>
              <a:gdLst/>
              <a:ahLst/>
              <a:rect l="l" t="t" r="r" b="b"/>
              <a:pathLst>
                <a:path w="514" h="458">
                  <a:moveTo>
                    <a:pt x="169" y="40"/>
                  </a:moveTo>
                  <a:cubicBezTo>
                    <a:pt x="165" y="47"/>
                    <a:pt x="160" y="54"/>
                    <a:pt x="158" y="62"/>
                  </a:cubicBezTo>
                  <a:cubicBezTo>
                    <a:pt x="154" y="80"/>
                    <a:pt x="158" y="100"/>
                    <a:pt x="152" y="117"/>
                  </a:cubicBezTo>
                  <a:cubicBezTo>
                    <a:pt x="150" y="122"/>
                    <a:pt x="115" y="139"/>
                    <a:pt x="114" y="139"/>
                  </a:cubicBezTo>
                  <a:cubicBezTo>
                    <a:pt x="101" y="144"/>
                    <a:pt x="75" y="150"/>
                    <a:pt x="75" y="150"/>
                  </a:cubicBezTo>
                  <a:cubicBezTo>
                    <a:pt x="52" y="166"/>
                    <a:pt x="40" y="191"/>
                    <a:pt x="20" y="211"/>
                  </a:cubicBezTo>
                  <a:cubicBezTo>
                    <a:pt x="4" y="262"/>
                    <a:pt x="0" y="333"/>
                    <a:pt x="48" y="365"/>
                  </a:cubicBezTo>
                  <a:cubicBezTo>
                    <a:pt x="48" y="365"/>
                    <a:pt x="103" y="392"/>
                    <a:pt x="114" y="398"/>
                  </a:cubicBezTo>
                  <a:cubicBezTo>
                    <a:pt x="121" y="402"/>
                    <a:pt x="136" y="409"/>
                    <a:pt x="136" y="409"/>
                  </a:cubicBezTo>
                  <a:cubicBezTo>
                    <a:pt x="193" y="405"/>
                    <a:pt x="234" y="392"/>
                    <a:pt x="284" y="409"/>
                  </a:cubicBezTo>
                  <a:cubicBezTo>
                    <a:pt x="300" y="458"/>
                    <a:pt x="307" y="453"/>
                    <a:pt x="356" y="442"/>
                  </a:cubicBezTo>
                  <a:cubicBezTo>
                    <a:pt x="367" y="425"/>
                    <a:pt x="372" y="409"/>
                    <a:pt x="383" y="392"/>
                  </a:cubicBezTo>
                  <a:cubicBezTo>
                    <a:pt x="396" y="346"/>
                    <a:pt x="367" y="276"/>
                    <a:pt x="400" y="244"/>
                  </a:cubicBezTo>
                  <a:cubicBezTo>
                    <a:pt x="420" y="224"/>
                    <a:pt x="442" y="219"/>
                    <a:pt x="460" y="194"/>
                  </a:cubicBezTo>
                  <a:cubicBezTo>
                    <a:pt x="469" y="144"/>
                    <a:pt x="489" y="143"/>
                    <a:pt x="510" y="101"/>
                  </a:cubicBezTo>
                  <a:cubicBezTo>
                    <a:pt x="506" y="86"/>
                    <a:pt x="514" y="60"/>
                    <a:pt x="499" y="57"/>
                  </a:cubicBezTo>
                  <a:cubicBezTo>
                    <a:pt x="243" y="0"/>
                    <a:pt x="395" y="55"/>
                    <a:pt x="301" y="84"/>
                  </a:cubicBezTo>
                  <a:cubicBezTo>
                    <a:pt x="251" y="78"/>
                    <a:pt x="246" y="77"/>
                    <a:pt x="218" y="34"/>
                  </a:cubicBezTo>
                  <a:cubicBezTo>
                    <a:pt x="209" y="20"/>
                    <a:pt x="185" y="38"/>
                    <a:pt x="169" y="40"/>
                  </a:cubicBezTo>
                  <a:close/>
                </a:path>
              </a:pathLst>
            </a:custGeom>
            <a:solidFill>
              <a:srgbClr val="ffff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608040" y="3666960"/>
            <a:ext cx="81612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ivas do erro obtidas com os dados usados para crescer a árvore não são “fiávei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02C9B-A85A-4EB9-8F44-48C86AEC21DF}" type="slidenum">
              <a:t>12</a:t>
            </a:fld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331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825560" y="1389240"/>
          <a:ext cx="6164280" cy="485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560" y="1389240"/>
                    <a:ext cx="6164280" cy="48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F2100-A2A0-45D6-BD13-5ADC69B74C2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stratégias para evitar o “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overfitt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er métodos de “avaliação” da “qualidade” de uma árvore mais fiáve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lhores estimativas do er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o do princípi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“Minimum Description Length (MDL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Rissanen, 1982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o usar estes métodos mais fiá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re-pru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ar o crescimento das árvores assim que as nossas “estimativas” mais fiáveis, indiquem que não vale a pena continu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ost-pru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scer uma árvore exageradamente gran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rcurar a “melhor” sub-árv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estratégia usualmente seguida é o “Post-Pruning” da Árv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0" y="5886360"/>
            <a:ext cx="9171000" cy="658440"/>
            <a:chOff x="0" y="5886360"/>
            <a:chExt cx="9171000" cy="658440"/>
          </a:xfrm>
        </p:grpSpPr>
        <p:sp>
          <p:nvSpPr>
            <p:cNvPr id="162" name=""/>
            <p:cNvSpPr/>
            <p:nvPr/>
          </p:nvSpPr>
          <p:spPr>
            <a:xfrm>
              <a:off x="4680" y="5964120"/>
              <a:ext cx="9166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issanen,J. (1982) : A universal prior for integers and estimation by the minimum description length.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nnals of Statistics, 11, 416-431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0" y="5886360"/>
              <a:ext cx="91440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DBD88-502E-4A36-A5E7-513376B6C5E6}" type="slidenum">
              <a:t>14</a:t>
            </a:fld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re-pru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umindo que num dado passo do crescimento te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caso das estimativas de erro obtidas com os casos de treino, verifica-se semp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entanto, quando temos estimativas do erro mais fiáveis esta relação já não é sempre verdadeir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im, como critério de paragem do crescimento podemos usar a condi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03360" y="1731960"/>
                <a:ext cx="76788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Er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,Er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n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n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n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782720" y="3306600"/>
                <a:ext cx="429408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≥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Er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Er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227400" y="5586480"/>
                <a:ext cx="429408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62C00-0194-435D-B695-E00553A4625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blemas” do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re-pru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tencialmente poderemos parar “cedo de mai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ingir um mínimo loc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bora o critério de paragem possa indicar que deveríamos parar, não quer dizer que posteriores testes não fossem gerar uma partição dos casos no nó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com menor erro, do que a partição actualmente a ser conside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ma possível solução é usar o critério referido atrás em conjunto com um mecanismo d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ook-ahea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smo que a condição indicada anteriormente sugira uma paragem, continuar a divisã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íveis para baix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5C216-050C-478C-8041-7F1D89FDF64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ost-pruning</a:t>
            </a: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escolha de entre uma sequência de sub-árv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ma tentativa de evitar os “problemas” d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re-prun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ode-se proceder da seguinte forma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ost-prun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rar uma árvore exageradamente gran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ritérios “relaxados” que são usualmente utilizad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r se o número de casos no nó actual é inferior a um dado limite (ex. 5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r se o erro no nó actual é inferior a uma percentagem do erro na raíz (5%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rar um conjunto de sub-árvores da árvore inicial (as candidatas a árvore fin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ra problemas minimamente grandes o espaço de possíveis sub-árvores é demasiado grande para um procura exaustiv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ão necessárias estratégias de procura neste espaço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Torgo, 1998a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colher uma das sub-árvores com base em alguma estimativa fiável da sua qualidade (Torgo, 1998b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orgo,L. (1998a) :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quence-based Methods for Pruning Regression Tree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LIACC Internal Report. http://www.liaad.up.pt/~ltorgo/Research (“Documents”; “Internal Reports”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orgo,L. (1998b) :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rror Estimates for Pruning Regression Tree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10th European Conference on Machine Learning, LNAI 1398, Springer Verlag.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ttp://www.liaad.up.pt/~ltorgo/Research (“Documents”; “Scientific Publications”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BC61B-7FB4-4A12-9DF1-F98CE178A36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ost-prun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 através de sequências de árv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0" y="1158840"/>
            <a:ext cx="9142560" cy="5227560"/>
            <a:chOff x="0" y="1158840"/>
            <a:chExt cx="9142560" cy="5227560"/>
          </a:xfrm>
        </p:grpSpPr>
        <p:graphicFrame>
          <p:nvGraphicFramePr>
            <p:cNvPr id="175" name=""/>
            <p:cNvGraphicFramePr/>
            <p:nvPr/>
          </p:nvGraphicFramePr>
          <p:xfrm>
            <a:off x="138240" y="1158840"/>
            <a:ext cx="9004320" cy="52275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7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8240" y="1158840"/>
                      <a:ext cx="9004320" cy="522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7" name=""/>
            <p:cNvSpPr/>
            <p:nvPr/>
          </p:nvSpPr>
          <p:spPr>
            <a:xfrm>
              <a:off x="0" y="2786040"/>
              <a:ext cx="654120" cy="264960"/>
            </a:xfrm>
            <a:prstGeom prst="ellipse">
              <a:avLst/>
            </a:prstGeom>
            <a:noFill/>
            <a:ln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920" y="3778200"/>
              <a:ext cx="654120" cy="265320"/>
            </a:xfrm>
            <a:prstGeom prst="ellipse">
              <a:avLst/>
            </a:prstGeom>
            <a:noFill/>
            <a:ln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080" y="4168800"/>
              <a:ext cx="654120" cy="264960"/>
            </a:xfrm>
            <a:prstGeom prst="ellipse">
              <a:avLst/>
            </a:prstGeom>
            <a:noFill/>
            <a:ln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4AACA-079D-4D31-A969-7DD44853FE36}" type="slidenum">
              <a:t>18</a:t>
            </a:fld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5" dur="500" fill="hold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m exemplo</a:t>
            </a: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 sistema CART (Breiman, et.al. 1984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e sistema tem duas alternativas para obter as estimativas fiáveis do erro das árv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ixando de lado um sub-conjunto dos casos de treino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oldou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ando validação cruzada para obter as estima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ando o método do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oldou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 CART começa por gerar uma sequência de sub-árvores da árvore inicial usando um algoritmo chamado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rror Complexity Pru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e algoritmo consiste em ir sucessivamente podando a árvore no nó que minimiza a função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oldou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é depois usado para obter estimativas independentes do erro de cada árvore nesta sequ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árvore de menor erro estimado é a árvore final do C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808440" y="4135320"/>
                <a:ext cx="27334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t,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r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r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291960" y="6216480"/>
            <a:ext cx="83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reiman,L., Friedman,J., Stone,C., Olshen,R. (1984): Classification and Regression Tre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7120" y="6203880"/>
            <a:ext cx="82105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7AA42-7887-42EF-8013-3ECEC673544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Árvores de Regressão - 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los não-paramétr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ão aplicáveis a uma larga gama de proble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acionalmente muito efic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dam facilmente com problemas de grande dimens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ção de variáveis “automátic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808080"/>
              </a:buClr>
              <a:buSzPct val="45000"/>
              <a:buFont typeface="Wingdings" charset="2"/>
              <a:buChar char="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roximação obtida pelos modelos com fortes descontinu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808080"/>
              </a:buClr>
              <a:buSzPct val="45000"/>
              <a:buFont typeface="Wingdings" charset="2"/>
              <a:buChar char="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roximação pouco “suav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808080"/>
              </a:buClr>
              <a:buSzPct val="45000"/>
              <a:buFont typeface="Wingdings" charset="2"/>
              <a:buChar char="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m termos de erro é possível obter melhores resultados em certo tipo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1D99F-49A1-481A-A793-2B42F416893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ma outra alternativa para fazer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ost-pruning</a:t>
            </a: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sem gerar sequências (“de uma passo só”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algoritmo de Niblett &amp; Bratko (1986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urier New"/>
              </a:rPr>
              <a:t>N&amp;B_pruning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(t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alcular 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 t é uma folha ENT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ornar 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N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L = N&amp;B_pruning(t-&gt;left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R = N&amp;B_pruning(t-&gt;right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d = nL/n * EL + nR/n * 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 Ed &gt; Es ENT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ornar t numa folha (pruning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ornar 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NÃO Retornar 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821200" y="2409840"/>
            <a:ext cx="3322800" cy="1108080"/>
          </a:xfrm>
          <a:prstGeom prst="borderCallout1">
            <a:avLst>
              <a:gd name="adj1" fmla="val 18750"/>
              <a:gd name="adj2" fmla="val -8333"/>
              <a:gd name="adj3" fmla="val 137680"/>
              <a:gd name="adj4" fmla="val -38796"/>
            </a:avLst>
          </a:prstGeom>
          <a:noFill/>
          <a:ln w="3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ão necessárias estimativas fiáveis de contrário nunca se faz prun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1960" y="6216480"/>
            <a:ext cx="826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iblett,T., Bratko,I. (1986) ; Learning decision rules in noisy domains. Expert Systems, 8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7120" y="6203880"/>
            <a:ext cx="82105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2503440" y="2505240"/>
            <a:ext cx="3222720" cy="586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52BE4-CF03-42AD-B298-22CEFE4BB5D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ma abordagem bayesiana</a:t>
            </a: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os estimadore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Karalic &amp; Cestnik, 1991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60" y="1195200"/>
            <a:ext cx="7767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étodo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ayesiano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binação entre estimativas à priori e valores observ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rro em árvores de regressão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rro nas folh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timadores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Karalic &amp; Cestnik, 1991) para o erro quadrado méd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6027840" y="2459160"/>
            <a:ext cx="3116160" cy="3043080"/>
            <a:chOff x="6027840" y="2459160"/>
            <a:chExt cx="3116160" cy="304308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6207120" y="3525840"/>
              <a:ext cx="2685960" cy="19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7731000" y="2459160"/>
              <a:ext cx="1143000" cy="838080"/>
            </a:xfrm>
            <a:prstGeom prst="wedgeEllipseCallout">
              <a:avLst>
                <a:gd name="adj1" fmla="val -66527"/>
                <a:gd name="adj2" fmla="val 75569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GB" sz="4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</a:rPr>
                <a:t> 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 txBox="1"/>
            <p:nvPr/>
          </p:nvSpPr>
          <p:spPr>
            <a:xfrm>
              <a:off x="7639200" y="4599000"/>
              <a:ext cx="1504800" cy="3254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cc"/>
                  </a:solidFill>
                  <a:latin typeface="Arial Black"/>
                </a:rPr>
                <a:t>Folh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6027840" y="4592520"/>
              <a:ext cx="1346040" cy="3254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cc"/>
                  </a:solidFill>
                  <a:latin typeface="Arial Black"/>
                </a:rPr>
                <a:t>Raíz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-436680" y="3639960"/>
            <a:ext cx="55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 PL ShanHeiSun Uni"/>
              </a:rPr>
              <a:t>Estimad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 PL ShanHeiSun Uni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 PL ShanHeiSun Uni"/>
              </a:rPr>
              <a:t> do Erro Quadrado Médi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1400" y="4095720"/>
            <a:ext cx="5943600" cy="1538280"/>
            <a:chOff x="41400" y="4095720"/>
            <a:chExt cx="5943600" cy="1538280"/>
          </a:xfrm>
        </p:grpSpPr>
        <p:pic>
          <p:nvPicPr>
            <p:cNvPr id="200" name="" descr=""/>
            <p:cNvPicPr/>
            <p:nvPr/>
          </p:nvPicPr>
          <p:blipFill>
            <a:blip r:embed="rId2"/>
            <a:stretch/>
          </p:blipFill>
          <p:spPr>
            <a:xfrm>
              <a:off x="422280" y="4095720"/>
              <a:ext cx="4403880" cy="72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3"/>
            <a:stretch/>
          </p:blipFill>
          <p:spPr>
            <a:xfrm>
              <a:off x="41400" y="4933800"/>
              <a:ext cx="5943600" cy="7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"/>
          <p:cNvSpPr/>
          <p:nvPr/>
        </p:nvSpPr>
        <p:spPr>
          <a:xfrm>
            <a:off x="185760" y="5907240"/>
            <a:ext cx="889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Karalic,A., Cestnik,B. (1991): The bayesian approach to tree-structure regression. Proceedings of ITI-9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139840" y="1878120"/>
                <a:ext cx="36608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s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+m</m:t>
                        </m:r>
                      </m:den>
                    </m:f>
                    <m:r>
                      <m:t xml:space="preserve">ξ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+m</m:t>
                        </m:r>
                      </m:den>
                    </m:f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378000" y="5805360"/>
            <a:ext cx="83088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6457D-8A7C-452A-8765-ACCBBE7D9BA9}" type="slidenum">
              <a:t>21</a:t>
            </a:fld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dur="indefinite" fill="hold">
                      <p:stCondLst>
                        <p:cond delay="indefinite"/>
                      </p:stCondLst>
                      <p:childTnLst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dur="indefinite" fill="hold">
                            <p:stCondLst>
                              <p:cond delay="1"/>
                            </p:stCondLst>
                            <p:childTnLst>
                              <p:par>
                                <p:cTn id="15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 fill="hold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guns dos métodos para escolher árvores com base em estimativas de erro mais fiáv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étodos de Re-Amostrag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oldou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lidação Cruz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ootstra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étodo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ayesi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imadore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Karalic &amp; Cestnik, 199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ivas baseadas nas propriades da distribuição de amostr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imado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hiEs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Torgo, 1999) para o erro quadrado méd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orgo,L. (1999): “Inductive Learning of Tree-based Regression Models”, capítulo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liaad.up.pt/~ltorgo/Ph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003ED-1782-460A-A423-2EE16EEAE20A}" type="slidenum">
              <a:t>22</a:t>
            </a:fld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dur="indefinite" fill="hold">
                      <p:stCondLst>
                        <p:cond delay="indefinite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dur="indefinite" fill="hold">
                      <p:stCondLst>
                        <p:cond delay="indefinite"/>
                      </p:stCondLst>
                      <p:childTnLst>
                        <p:par>
                          <p:cTn id="1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dur="indefinite" fill="hold">
                      <p:stCondLst>
                        <p:cond delay="indefinite"/>
                      </p:stCondLst>
                      <p:childTnLst>
                        <p:par>
                          <p:cTn id="1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alternativa às estimativas de erro</a:t>
            </a: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o princípio M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9040" y="1190520"/>
            <a:ext cx="899460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bjectiv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inimiz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 tamanho d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dificação binári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o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odel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 seu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rr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69800" y="4038480"/>
            <a:ext cx="8426520" cy="1901880"/>
            <a:chOff x="469800" y="4038480"/>
            <a:chExt cx="8426520" cy="1901880"/>
          </a:xfrm>
        </p:grpSpPr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>
              <a:off x="3402000" y="4587840"/>
              <a:ext cx="80172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2"/>
            <a:stretch/>
          </p:blipFill>
          <p:spPr>
            <a:xfrm>
              <a:off x="7539120" y="4495680"/>
              <a:ext cx="533160" cy="11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4133520" y="4128480"/>
              <a:ext cx="2166120" cy="520200"/>
            </a:xfrm>
            <a:prstGeom prst="wedgeEllipseCallout">
              <a:avLst>
                <a:gd name="adj1" fmla="val -56527"/>
                <a:gd name="adj2" fmla="val 9114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001..1100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9800" y="4540320"/>
              <a:ext cx="690840" cy="109224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2360" y="5005440"/>
              <a:ext cx="59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D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17640" y="4359240"/>
              <a:ext cx="87480" cy="7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98720" y="4573440"/>
              <a:ext cx="87120" cy="74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70040" y="4586400"/>
              <a:ext cx="87480" cy="7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60480" y="4765680"/>
              <a:ext cx="87480" cy="7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193840" y="4789440"/>
              <a:ext cx="87480" cy="7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1731600" y="4422600"/>
              <a:ext cx="10332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95400" y="4417920"/>
              <a:ext cx="1382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1913040" y="4640400"/>
              <a:ext cx="108000" cy="11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76480" y="4632480"/>
              <a:ext cx="13824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08120" y="4038480"/>
              <a:ext cx="70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Model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93720" y="512460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Err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84440" y="5405400"/>
              <a:ext cx="6094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23.4</a:t>
              </a:r>
              <a:br>
                <a:rPr sz="1400"/>
              </a:b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45.6</a:t>
              </a:r>
              <a:br>
                <a:rPr sz="1400"/>
              </a:b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90920" y="4203720"/>
              <a:ext cx="914400" cy="24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9215" y="26251"/>
                  </a:moveTo>
                  <a:lnTo>
                    <a:pt x="-1800" y="9720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1001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66880" y="5303880"/>
              <a:ext cx="914400" cy="24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7302" y="33483"/>
                  </a:moveTo>
                  <a:lnTo>
                    <a:pt x="-1800" y="9720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1100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41280" y="4210200"/>
              <a:ext cx="209520" cy="1730160"/>
            </a:xfrm>
            <a:custGeom>
              <a:avLst/>
              <a:gdLst>
                <a:gd name="textAreaLeft" fmla="*/ 133920 w 209520"/>
                <a:gd name="textAreaRight" fmla="*/ 209880 w 209520"/>
                <a:gd name="textAreaTop" fmla="*/ 45000 h 1730160"/>
                <a:gd name="textAreaBottom" fmla="*/ 1685160 h 173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201160" y="4818240"/>
              <a:ext cx="695160" cy="593640"/>
            </a:xfrm>
            <a:prstGeom prst="can">
              <a:avLst>
                <a:gd name="adj" fmla="val 25000"/>
              </a:avLst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277120" y="5035680"/>
              <a:ext cx="59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D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135000" y="2017800"/>
            <a:ext cx="900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 PL ShanHeiSun Un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 PL ShanHeiSun Uni"/>
              </a:rPr>
              <a:t>Método baseado na teoria da informaçã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 PL ShanHeiSun Un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 PL ShanHeiSun Uni"/>
              </a:rPr>
              <a:t>Codificar o mode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 PL ShanHeiSun Un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 PL ShanHeiSun Uni"/>
              </a:rPr>
              <a:t>Codificar os seus er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 PL ShanHeiSun Un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 PL ShanHeiSun Uni"/>
              </a:rPr>
              <a:t>O número de bits resultantes da codificação pode ser usado para comparar model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2D2DC-CA06-4DCC-8B0A-F9C2F4FE78A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 uso do MDL para fazer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run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e árvores de regressão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Robnik-Sikonja &amp; Kononenko, 1998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ar o tamanho da codificação binária decidir se se deve transformar um nó numa fol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062000" y="2290680"/>
            <a:ext cx="1542960" cy="1503720"/>
            <a:chOff x="1062000" y="2290680"/>
            <a:chExt cx="1542960" cy="1503720"/>
          </a:xfrm>
        </p:grpSpPr>
        <p:grpSp>
          <p:nvGrpSpPr>
            <p:cNvPr id="236" name=""/>
            <p:cNvGrpSpPr/>
            <p:nvPr/>
          </p:nvGrpSpPr>
          <p:grpSpPr>
            <a:xfrm>
              <a:off x="1719360" y="2290680"/>
              <a:ext cx="885600" cy="1092240"/>
              <a:chOff x="1719360" y="2290680"/>
              <a:chExt cx="885600" cy="109224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2090880" y="2290680"/>
                <a:ext cx="514080" cy="63504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1719360" y="2747880"/>
                <a:ext cx="514080" cy="63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1062000" y="3395520"/>
              <a:ext cx="130824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CodeL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511960" y="1711440"/>
            <a:ext cx="3030480" cy="2909160"/>
            <a:chOff x="5511960" y="1711440"/>
            <a:chExt cx="3030480" cy="2909160"/>
          </a:xfrm>
        </p:grpSpPr>
        <p:sp>
          <p:nvSpPr>
            <p:cNvPr id="241" name=""/>
            <p:cNvSpPr/>
            <p:nvPr/>
          </p:nvSpPr>
          <p:spPr>
            <a:xfrm>
              <a:off x="6151680" y="2811600"/>
              <a:ext cx="1763640" cy="617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7040160" y="1711440"/>
              <a:ext cx="885960" cy="1092240"/>
              <a:chOff x="7040160" y="1711440"/>
              <a:chExt cx="885960" cy="1092240"/>
            </a:xfrm>
          </p:grpSpPr>
          <p:sp>
            <p:nvSpPr>
              <p:cNvPr id="243" name=""/>
              <p:cNvSpPr/>
              <p:nvPr/>
            </p:nvSpPr>
            <p:spPr>
              <a:xfrm flipH="1">
                <a:off x="7411680" y="1711440"/>
                <a:ext cx="514440" cy="63504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7040160" y="2168640"/>
                <a:ext cx="514440" cy="63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6418440" y="2922480"/>
              <a:ext cx="13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CodeL(s)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6184800" y="3394080"/>
              <a:ext cx="744480" cy="77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68960" y="3394080"/>
              <a:ext cx="774720" cy="73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511960" y="4168800"/>
              <a:ext cx="1307880" cy="440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CodeL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34200" y="4179960"/>
              <a:ext cx="1308240" cy="440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CodeL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20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216000" y="4111560"/>
            <a:ext cx="469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ode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ode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Modelo) +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ode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Erros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2560" y="5070600"/>
            <a:ext cx="7588440" cy="510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arar se    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CodeL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CodeL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CodeL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CodeL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440" y="5891040"/>
            <a:ext cx="846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obnik-Sikonja,M., Kononenko,I. (1998) : Pruning regression trees with MDL. Proceedings of the European Conference on Artificial Intellige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A5CA4-1FA7-45FC-80E1-58262CE47538}" type="slidenum">
              <a:t>24</a:t>
            </a:fld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dur="indefinite" fill="hold">
                      <p:stCondLst>
                        <p:cond delay="indefinite"/>
                      </p:stCondLst>
                      <p:childTnLst>
                        <p:par>
                          <p:cTn id="1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6" dur="500" fill="hold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 fill="hold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dur="indefinite" fill="hold">
                      <p:stCondLst>
                        <p:cond delay="indefinite"/>
                      </p:stCondLst>
                      <p:childTnLst>
                        <p:par>
                          <p:cTn id="2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 fill="hold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s principais sistemas de aprendizagem de árvores de regressão “standard” e o seus métodos d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ru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Breiman, et. Al., 1984) [www.salsford-systems.com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t-pruning po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oldou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u validação cruzada a partir de uma sequência de árvores geradas pelo algoritm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rror-Complex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R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Robnik-Sikonja &amp; Kononenko, 1998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t-pruning usando o algoritmo de Niblet &amp; Bratko com o princípo MD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TI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Karalic &amp; Cestnik, 1991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t-pruning usando o algoritmo de Niblet &amp; Bratko com os estimadore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o erro quadrado méd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Torgo, 1999) [www.liaad.up.pt/~ltorgo/R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dos os métodos dos outros, ma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ês algoritmos novos para gerar sequênc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timador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hiEs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o erro quadrado méd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timador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ara o desvio absoluto mé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6B664-48C9-4B66-8726-0ECA2505EC5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alores desconhecidos em atribu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derão existir problemas em que alguma observação não têm valor para um ou vários atribu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as que isto cau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ante a aprendizag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ante as previsões usando as árv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o resol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enchendo os buraco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or mais frequ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or mais frequente nos casos de treino mais semelh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urrogate spli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CART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ar o atributo mais “correlacionado” com o atributo em fa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ras aproxima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4E949-8EAF-4048-ADB8-62124A51A588}" type="slidenum">
              <a:t>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22160" y="1158840"/>
            <a:ext cx="7877160" cy="52722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emplo de uma Árvore de Regress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10368-811C-4772-83F9-28770AB351F7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31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2240" y="1262160"/>
            <a:ext cx="7151760" cy="4787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76280" y="1531800"/>
            <a:ext cx="161928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RIM : 0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ZN : 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DUS : 5.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AS 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X : 0.4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RM : 4.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GE : 67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DIS : 7.2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AD :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AX : 2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/T : 19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 : 396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LSTAT : 6.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HV :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B6BA5-6BE4-4B71-9EB1-669B8EB88253}" type="slidenum">
              <a:t>4</a:t>
            </a:fld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dur="indefinite" fill="hold">
                      <p:stCondLst>
                        <p:cond delay="indefinite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dur="indefinite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todologia para obter Árvores -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86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do um conjunto de ca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ter o melhor teste para o topo da árv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vidir os casos de acordo com esse te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licar o mesmo método aos dois sub-conjuntos result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istem metodologias não biná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42000" y="1363680"/>
            <a:ext cx="43020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xemplo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onhamos que o melhor teste é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1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to origina os sub-conjunt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3F658-935D-4D0C-9BDE-25FC1917AF58}" type="slidenum">
              <a:t>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877896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goritmo “Recursive Partitioning” (RP)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ritério de Paragem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ENT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riar um nó folha e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tribuir-lhe um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ornar o nó fol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N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bter o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lhor teste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riar um nó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com o teste 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amoEsquerdo(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) = RP({&l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,y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gt; :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s* }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amoDireito(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) = RP({&l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,y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gt; :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s* }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ornar Nó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IM_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todologia para obter Árvores -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114880"/>
            <a:ext cx="9144000" cy="15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três questões fulcrais do crescimento de árvores de regress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Atribuição de um Valor aos nós folh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Selecção do Melhor Tes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Critério de Parag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905360" y="4084560"/>
                <a:ext cx="26028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AF2CB-40A8-4BFC-89DF-1F4DC12DC895}" type="slidenum">
              <a:t>6</a:t>
            </a:fld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219320"/>
            <a:ext cx="914400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ritério da minimização do Erro Quadrado Mé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bter os parâmetros do modelo (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que minimizam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ssumindo um valor constante para as folh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demonstra-se facilmente que o valor que minimiza a expressão anterior é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édia de 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sim, ao escolher o critério da minimização do erro quadrado médio, o valor que deveremos colocar nas folhas da árvore são os valores médios da variáve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os casos nessa fol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itérios de Preferência para crescimento de árv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809800" y="1984320"/>
                <a:ext cx="23734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r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β,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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F569C-4D2C-420A-B1E0-3AF610F8DAD0}" type="slidenum">
              <a:t>7</a:t>
            </a:fld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0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inimização do Desvio Absoluto Mé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19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étodo alternativo para avaliar um modelo de regress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étodo menos sensível a distribuições enviezadas e “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utlier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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nos susceptível a optimizações computacionais e logo menos efic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ritério da minimização do Desvio Absoluto Médio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orgo, 1999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ter os parâmetros do modelo 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que minimizam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911320" y="3295800"/>
                <a:ext cx="2320920" cy="88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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β,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 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281160" y="4294080"/>
            <a:ext cx="808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33360"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1247760"/>
                <a:tab algn="l" pos="2162160"/>
                <a:tab algn="l" pos="3076560"/>
                <a:tab algn="l" pos="3990960"/>
                <a:tab algn="l" pos="4905360"/>
                <a:tab algn="l" pos="5819760"/>
                <a:tab algn="l" pos="6734160"/>
                <a:tab algn="l" pos="7648560"/>
                <a:tab algn="l" pos="8562960"/>
                <a:tab algn="l" pos="9477360"/>
                <a:tab algn="l" pos="1039176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ssumindo um valor constante para as folh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prova-se que o valor que minimiza a expressão anterior é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ediana de 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tabLst>
                <a:tab algn="l" pos="0"/>
                <a:tab algn="l" pos="333360"/>
                <a:tab algn="l" pos="1247760"/>
                <a:tab algn="l" pos="2162160"/>
                <a:tab algn="l" pos="3076560"/>
                <a:tab algn="l" pos="3990960"/>
                <a:tab algn="l" pos="4905360"/>
                <a:tab algn="l" pos="5819760"/>
                <a:tab algn="l" pos="6734160"/>
                <a:tab algn="l" pos="7648560"/>
                <a:tab algn="l" pos="8562960"/>
                <a:tab algn="l" pos="9477360"/>
                <a:tab algn="l" pos="1039176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tabLst>
                <a:tab algn="l" pos="0"/>
                <a:tab algn="l" pos="333360"/>
                <a:tab algn="l" pos="1247760"/>
                <a:tab algn="l" pos="2162160"/>
                <a:tab algn="l" pos="3076560"/>
                <a:tab algn="l" pos="3990960"/>
                <a:tab algn="l" pos="4905360"/>
                <a:tab algn="l" pos="5819760"/>
                <a:tab algn="l" pos="6734160"/>
                <a:tab algn="l" pos="7648560"/>
                <a:tab algn="l" pos="8562960"/>
                <a:tab algn="l" pos="9477360"/>
                <a:tab algn="l" pos="103917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tabLst>
                <a:tab algn="l" pos="0"/>
                <a:tab algn="l" pos="333360"/>
                <a:tab algn="l" pos="1247760"/>
                <a:tab algn="l" pos="2162160"/>
                <a:tab algn="l" pos="3076560"/>
                <a:tab algn="l" pos="3990960"/>
                <a:tab algn="l" pos="4905360"/>
                <a:tab algn="l" pos="5819760"/>
                <a:tab algn="l" pos="6734160"/>
                <a:tab algn="l" pos="7648560"/>
                <a:tab algn="l" pos="8562960"/>
                <a:tab algn="l" pos="9477360"/>
                <a:tab algn="l" pos="103917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orgo,L. (1999): “Inductive Learning of Tree-based Regression Models”, capítulo 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333360"/>
                <a:tab algn="l" pos="1247760"/>
                <a:tab algn="l" pos="2162160"/>
                <a:tab algn="l" pos="3076560"/>
                <a:tab algn="l" pos="3990960"/>
                <a:tab algn="l" pos="4905360"/>
                <a:tab algn="l" pos="5819760"/>
                <a:tab algn="l" pos="6734160"/>
                <a:tab algn="l" pos="7648560"/>
                <a:tab algn="l" pos="8562960"/>
                <a:tab algn="l" pos="9477360"/>
                <a:tab algn="l" pos="103917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AR PL ShanHeiSun Uni"/>
              </a:rPr>
              <a:t>http://www.liaad.up.pt/~ltorgo/Ph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F91BD-D3F7-46C7-8ECA-C378B680C1B4}" type="slidenum">
              <a:t>8</a:t>
            </a:fld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 melhor teste para um n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28600" y="2997360"/>
            <a:ext cx="4281480" cy="1468440"/>
            <a:chOff x="228600" y="2997360"/>
            <a:chExt cx="4281480" cy="1468440"/>
          </a:xfrm>
        </p:grpSpPr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757080" y="3489480"/>
                  <a:ext cx="3753000" cy="97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Err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d>
                            <m:dPr>
                              <m:begChr m:val="⟨"/>
                              <m:endChr m:val="⟩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 </m:t>
                          </m:r>
                          <m:r>
                            <m:t xml:space="preserve">∈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</m:sub>
                        <m:sup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¯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05" name=""/>
            <p:cNvSpPr/>
            <p:nvPr/>
          </p:nvSpPr>
          <p:spPr>
            <a:xfrm>
              <a:off x="228600" y="2997360"/>
              <a:ext cx="458640" cy="1058760"/>
            </a:xfrm>
            <a:custGeom>
              <a:avLst/>
              <a:gdLst>
                <a:gd name="textAreaLeft" fmla="*/ 61200 w 458640"/>
                <a:gd name="textAreaRight" fmla="*/ 397440 w 458640"/>
                <a:gd name="textAreaTop" fmla="*/ 186120 h 1058760"/>
                <a:gd name="textAreaBottom" fmla="*/ 764640 h 105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600" stAng="-5400000" swAng="-5400000"/>
                  <a:lnTo>
                    <a:pt x="0" y="11800"/>
                  </a:lnTo>
                  <a:arcTo wR="21600" hR="7600" stAng="10800000" swAng="-2691708"/>
                  <a:lnTo>
                    <a:pt x="14400" y="21165"/>
                  </a:lnTo>
                  <a:lnTo>
                    <a:pt x="21600" y="17300"/>
                  </a:lnTo>
                  <a:lnTo>
                    <a:pt x="14400" y="12565"/>
                  </a:lnTo>
                  <a:lnTo>
                    <a:pt x="14400" y="14765"/>
                  </a:lnTo>
                  <a:arcTo wR="21600" hR="7600" stAng="8108292" swAng="2345122"/>
                  <a:lnTo>
                    <a:pt x="841" y="9700"/>
                  </a:lnTo>
                  <a:arcTo wR="21600" hR="7600" stAng="-10453414" swAng="5053414"/>
                  <a:close/>
                </a:path>
                <a:path fill="darkenLess" w="21600" h="21600">
                  <a:moveTo>
                    <a:pt x="21600" y="0"/>
                  </a:moveTo>
                  <a:arcTo wR="21600" hR="7600" stAng="-5400000" swAng="-5400000"/>
                  <a:lnTo>
                    <a:pt x="0" y="7600"/>
                  </a:lnTo>
                  <a:arcTo wR="21600" hR="7600" stAng="10800000" swAng="-346586"/>
                  <a:lnTo>
                    <a:pt x="841" y="9700"/>
                  </a:lnTo>
                  <a:arcTo wR="21600" hR="7600" stAng="-10453414" swAng="5053414"/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963720" y="1674720"/>
            <a:ext cx="1542600" cy="1564560"/>
            <a:chOff x="963720" y="1674720"/>
            <a:chExt cx="1542600" cy="1564560"/>
          </a:xfrm>
        </p:grpSpPr>
        <p:grpSp>
          <p:nvGrpSpPr>
            <p:cNvPr id="107" name=""/>
            <p:cNvGrpSpPr/>
            <p:nvPr/>
          </p:nvGrpSpPr>
          <p:grpSpPr>
            <a:xfrm>
              <a:off x="963720" y="1674720"/>
              <a:ext cx="1542600" cy="1564560"/>
              <a:chOff x="963720" y="1674720"/>
              <a:chExt cx="1542600" cy="156456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1620360" y="1674720"/>
                <a:ext cx="885960" cy="1092240"/>
                <a:chOff x="1620360" y="1674720"/>
                <a:chExt cx="885960" cy="1092240"/>
              </a:xfrm>
            </p:grpSpPr>
            <p:sp>
              <p:nvSpPr>
                <p:cNvPr id="109" name=""/>
                <p:cNvSpPr/>
                <p:nvPr/>
              </p:nvSpPr>
              <p:spPr>
                <a:xfrm flipH="1">
                  <a:off x="1991880" y="1674720"/>
                  <a:ext cx="514440" cy="63504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H="1">
                  <a:off x="1620360" y="2131920"/>
                  <a:ext cx="514440" cy="635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" name=""/>
              <p:cNvSpPr/>
              <p:nvPr/>
            </p:nvSpPr>
            <p:spPr>
              <a:xfrm>
                <a:off x="963720" y="2779560"/>
                <a:ext cx="1307880" cy="459720"/>
              </a:xfrm>
              <a:prstGeom prst="rect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Err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‏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2030040" y="22334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146560" y="1317600"/>
            <a:ext cx="3030480" cy="2978640"/>
            <a:chOff x="5146560" y="1317600"/>
            <a:chExt cx="3030480" cy="2978640"/>
          </a:xfrm>
        </p:grpSpPr>
        <p:sp>
          <p:nvSpPr>
            <p:cNvPr id="114" name=""/>
            <p:cNvSpPr/>
            <p:nvPr/>
          </p:nvSpPr>
          <p:spPr>
            <a:xfrm>
              <a:off x="5786280" y="2417760"/>
              <a:ext cx="1764000" cy="617400"/>
            </a:xfrm>
            <a:prstGeom prst="ellipse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6675120" y="1317600"/>
              <a:ext cx="885960" cy="1092240"/>
              <a:chOff x="6675120" y="1317600"/>
              <a:chExt cx="885960" cy="1092240"/>
            </a:xfrm>
          </p:grpSpPr>
          <p:sp>
            <p:nvSpPr>
              <p:cNvPr id="116" name=""/>
              <p:cNvSpPr/>
              <p:nvPr/>
            </p:nvSpPr>
            <p:spPr>
              <a:xfrm flipH="1">
                <a:off x="7046640" y="1317600"/>
                <a:ext cx="514440" cy="63504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675120" y="1774800"/>
                <a:ext cx="514440" cy="63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6018120" y="2476440"/>
              <a:ext cx="130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67160" y="19652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5819760" y="3000240"/>
              <a:ext cx="744480" cy="77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03920" y="3000240"/>
              <a:ext cx="774720" cy="73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46560" y="3774960"/>
              <a:ext cx="1308240" cy="51012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Err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69160" y="3786120"/>
              <a:ext cx="1307880" cy="51012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Err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38680" y="3089160"/>
              <a:ext cx="48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t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299720" y="3105000"/>
              <a:ext cx="489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t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321000" y="3879720"/>
            <a:ext cx="5823000" cy="1698840"/>
            <a:chOff x="3321000" y="3879720"/>
            <a:chExt cx="5823000" cy="1698840"/>
          </a:xfrm>
        </p:grpSpPr>
        <p:sp>
          <p:nvSpPr>
            <p:cNvPr id="127" name=""/>
            <p:cNvSpPr/>
            <p:nvPr/>
          </p:nvSpPr>
          <p:spPr>
            <a:xfrm>
              <a:off x="8626320" y="3879720"/>
              <a:ext cx="517680" cy="1533600"/>
            </a:xfrm>
            <a:custGeom>
              <a:avLst/>
              <a:gdLst>
                <a:gd name="textAreaLeft" fmla="*/ 69120 w 517680"/>
                <a:gd name="textAreaRight" fmla="*/ 448560 w 517680"/>
                <a:gd name="textAreaTop" fmla="*/ 269640 h 1533600"/>
                <a:gd name="textAreaBottom" fmla="*/ 1107720 h 153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600" stAng="-5400000" swAng="5400000"/>
                  <a:lnTo>
                    <a:pt x="21600" y="11800"/>
                  </a:lnTo>
                  <a:arcTo wR="21600" hR="7600" stAng="0" swAng="1288428"/>
                  <a:lnTo>
                    <a:pt x="14400" y="19665"/>
                  </a:lnTo>
                  <a:lnTo>
                    <a:pt x="0" y="17300"/>
                  </a:lnTo>
                  <a:lnTo>
                    <a:pt x="14400" y="11065"/>
                  </a:lnTo>
                  <a:lnTo>
                    <a:pt x="14400" y="13265"/>
                  </a:lnTo>
                  <a:arcTo wR="21600" hR="7600" stAng="1288428" swAng="-941842"/>
                  <a:lnTo>
                    <a:pt x="20759" y="9700"/>
                  </a:lnTo>
                  <a:arcTo wR="21600" hR="7600" stAng="-346586" swAng="-5053414"/>
                  <a:close/>
                </a:path>
                <a:path fill="darkenLess" w="21600" h="21600">
                  <a:moveTo>
                    <a:pt x="0" y="0"/>
                  </a:moveTo>
                  <a:arcTo wR="21600" hR="7600" stAng="-5400000" swAng="5400000"/>
                  <a:lnTo>
                    <a:pt x="21600" y="11800"/>
                  </a:lnTo>
                  <a:arcTo wR="21600" hR="7600" stAng="0" swAng="-346586"/>
                  <a:lnTo>
                    <a:pt x="20759" y="9700"/>
                  </a:lnTo>
                  <a:arcTo wR="21600" hR="7600" stAng="-346586" swAng="-5053414"/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3321000" y="4573440"/>
                  <a:ext cx="5111640" cy="100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Err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s,t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´Err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</m:d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´Err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9" name=""/>
          <p:cNvGrpSpPr/>
          <p:nvPr/>
        </p:nvGrpSpPr>
        <p:grpSpPr>
          <a:xfrm>
            <a:off x="758880" y="5607000"/>
            <a:ext cx="7832520" cy="617760"/>
            <a:chOff x="758880" y="5607000"/>
            <a:chExt cx="7832520" cy="617760"/>
          </a:xfrm>
        </p:grpSpPr>
        <p:sp>
          <p:nvSpPr>
            <p:cNvPr id="130" name=""/>
            <p:cNvSpPr/>
            <p:nvPr/>
          </p:nvSpPr>
          <p:spPr>
            <a:xfrm>
              <a:off x="758880" y="5607000"/>
              <a:ext cx="7832520" cy="6177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876240" y="5656320"/>
              <a:ext cx="7570800" cy="523800"/>
              <a:chOff x="876240" y="5656320"/>
              <a:chExt cx="7570800" cy="523800"/>
            </a:xfrm>
          </p:grpSpPr>
          <p:sp>
            <p:nvSpPr>
              <p:cNvPr id="132" name=""/>
              <p:cNvSpPr/>
              <p:nvPr/>
            </p:nvSpPr>
            <p:spPr>
              <a:xfrm>
                <a:off x="876240" y="5656320"/>
                <a:ext cx="3219480" cy="45972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Obter </a:t>
                </a:r>
                <a:r>
                  <a:rPr b="1" i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 que maximiza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3" name=""/>
                  <p:cNvSpPr txBox="1"/>
                  <p:nvPr/>
                </p:nvSpPr>
                <p:spPr>
                  <a:xfrm>
                    <a:off x="4167360" y="5661000"/>
                    <a:ext cx="4279680" cy="519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DEr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,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=Er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r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,t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A36E4-96FE-40E7-82ED-8955989C837E}" type="slidenum">
              <a:t>9</a:t>
            </a:fld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is Torgo</dc:creator>
  <dc:description/>
  <dc:language>en-US</dc:language>
  <cp:lastModifiedBy>ltorgo</cp:lastModifiedBy>
  <cp:revision>0</cp:revision>
  <dc:subject/>
  <dc:title>Bases de Dados</dc:title>
</cp:coreProperties>
</file>