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33600" cy="939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934320" cy="939636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396360"/>
              <a:gd name="textAreaBottom" fmla="*/ 9396000 h 9396360"/>
            </a:gdLst>
            <a:ahLst/>
            <a:rect l="textAreaLeft" t="textAreaTop" r="textAreaRight" b="textAreaBottom"/>
            <a:pathLst>
              <a:path w="21600" h="29269">
                <a:moveTo>
                  <a:pt x="4" y="0"/>
                </a:moveTo>
                <a:arcTo wR="4" hR="4" stAng="16200000" swAng="-5400000"/>
                <a:lnTo>
                  <a:pt x="0" y="29265"/>
                </a:lnTo>
                <a:arcTo wR="4" hR="4" stAng="10800000" swAng="-5400000"/>
                <a:lnTo>
                  <a:pt x="21596" y="292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934320" cy="939636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396360"/>
              <a:gd name="textAreaBottom" fmla="*/ 9396000 h 9396360"/>
            </a:gdLst>
            <a:ahLst/>
            <a:rect l="textAreaLeft" t="textAreaTop" r="textAreaRight" b="textAreaBottom"/>
            <a:pathLst>
              <a:path w="21600" h="29269">
                <a:moveTo>
                  <a:pt x="4" y="0"/>
                </a:moveTo>
                <a:arcTo wR="4" hR="4" stAng="16200000" swAng="-5400000"/>
                <a:lnTo>
                  <a:pt x="0" y="29265"/>
                </a:lnTo>
                <a:arcTo wR="4" hR="4" stAng="10800000" swAng="-5400000"/>
                <a:lnTo>
                  <a:pt x="21596" y="292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2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DejaVu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28680" y="0"/>
            <a:ext cx="3002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17440" y="704520"/>
            <a:ext cx="4695840" cy="35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464000"/>
            <a:ext cx="507996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926560"/>
            <a:ext cx="3002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DejaVu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28680" y="8926560"/>
            <a:ext cx="3002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8A760-A8C6-4B26-8762-A6B83B47E852}" type="slidenum"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174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25200" y="4463640"/>
            <a:ext cx="50814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AB7E-EFD1-4E0D-A0FA-493227FC0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1407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360" y="3960000"/>
            <a:ext cx="91407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1EEE-D888-4E7D-B25A-8B3F68DD9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36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60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DD3C-DA39-47C0-8F83-7897655B7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0240" y="129492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0840" y="129492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-360" y="396000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0240" y="396000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0840" y="396000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0508-6F36-43E2-9109-CA6CA9D80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914076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1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11160"/>
            <a:ext cx="91407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-36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914076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90DB-31C5-42FD-98B7-2BFEF2D6A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-360" y="3960000"/>
            <a:ext cx="91407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1407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-360" y="3960000"/>
            <a:ext cx="91407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360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0240" y="129492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0840" y="129492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-360" y="396000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0240" y="396000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0840" y="3960000"/>
            <a:ext cx="2943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1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A590-B435-44CE-B6EF-5D12C5AE5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05D0-1858-437C-A323-A8C3A90DF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65B5-69D0-4370-91B6-63A6C0B6B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11160"/>
            <a:ext cx="91407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DA12-4D82-4343-A866-D15EF998F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-36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F63A-5BB1-46D0-9FA5-173B6C6FA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0" y="396000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CD57-6ADA-43B8-A3DA-78A330AC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94920"/>
            <a:ext cx="4460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360" y="3960000"/>
            <a:ext cx="91407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7B22-8113-4C02-A5E2-01C0C911A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1160"/>
            <a:ext cx="9140760" cy="1139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294920"/>
            <a:ext cx="91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1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F2DFC-501A-40A0-933F-1393E03B76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0700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Luis To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769160" cy="1139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rendizagem baseada em Instânci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uis To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orgo@liaad.up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49280" y="639900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uldade de Econom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 do 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a função de distância heterogé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função que calcula a distância entre duas observações possivelmente descritas por atributo nominais e contínu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90440" y="2251080"/>
                <a:ext cx="6874200" cy="34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,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, em que 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                 se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ou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ão desconhecidos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                 se </m:t>
                                  </m:r>
                                  <m:r>
                                    <m:t xml:space="preserve">a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é nominal e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≠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                 se </m:t>
                                  </m:r>
                                  <m:r>
                                    <m:t xml:space="preserve">a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é nominal e 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=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f>
                                    <m:num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num>
                                    <m:den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ange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se </m:t>
                                  </m:r>
                                  <m:r>
                                    <m:t xml:space="preserve">a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é contínuo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58C2-CF08-478D-B6C7-49850DE712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a alternativa para atributos contínuos</a:t>
            </a:r>
            <a:br>
              <a:rPr sz="32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amping fun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Hong, 1994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ormulação anterior desfavorece valores quase iguais em atributos contínuos em relação aos nomin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4960" y="1922400"/>
                <a:ext cx="6102360" cy="29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 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g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 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g</m:t>
                                          </m:r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if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g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  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g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4" name=""/>
          <p:cNvGrpSpPr/>
          <p:nvPr/>
        </p:nvGrpSpPr>
        <p:grpSpPr>
          <a:xfrm>
            <a:off x="4599000" y="4707000"/>
            <a:ext cx="4358880" cy="1828080"/>
            <a:chOff x="4599000" y="4707000"/>
            <a:chExt cx="4358880" cy="1828080"/>
          </a:xfrm>
        </p:grpSpPr>
        <p:sp>
          <p:nvSpPr>
            <p:cNvPr id="125" name=""/>
            <p:cNvSpPr/>
            <p:nvPr/>
          </p:nvSpPr>
          <p:spPr>
            <a:xfrm>
              <a:off x="5452920" y="6145200"/>
              <a:ext cx="3081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452920" y="4868640"/>
              <a:ext cx="1800" cy="125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99000" y="4707000"/>
              <a:ext cx="860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92640" y="5011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4720" y="5956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5760" y="6107040"/>
              <a:ext cx="3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00520" y="6099120"/>
              <a:ext cx="42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d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37880" y="61642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8240" y="6135840"/>
              <a:ext cx="76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48240" y="5183280"/>
              <a:ext cx="28004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20120" y="5170320"/>
              <a:ext cx="1440" cy="96840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172200" y="5160960"/>
              <a:ext cx="1447920" cy="9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0120" y="516420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DCC3-6C60-41B9-BACE-65DE075947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ância dos atributos (variáve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uns atributos poderão ter menos importância do que outros (ou serem mesmo irrelevantes para o proble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não os distinguirmos estamos a distorcer a noção de semelhança entre dois 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terminação dos pesos dos atributos normalmente depende do objectivo da aprendiz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étodos diferentes para classificação e regre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ttschereck,D., Aha,D., Mohri,T. (1997) 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review and empirical comparison of feature weighting methods for a class of lazy learning algorithm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rtificial Intelligence Review, 11, p.11-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4920" y="3032280"/>
                <a:ext cx="8564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  <m:r>
                      <m:rPr>
                        <m:lit/>
                        <m:nor/>
                      </m:rPr>
                      <m:t xml:space="preserve"> ,   em que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é o peso da variável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E79F-FD3B-4B83-91EA-8636E54C29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rendizagem baseada em Instâncias para Class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da uma observação pretende-se classificá-la numa de várias possívei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abord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urar o caso de treino (registos históricos) mais semelh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r a distância da observação a todos os casos de tre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nar estes casos pelo valor da distâ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olher aquele que está mais perto (menor distância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r a classe da observação de treino mais parecida como previ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rdagem usualmente conhecida como Vizinho Mais Próximo (1NN, Nearest Neighbo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ito sensível a outl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502E-73DB-4C7A-B321-848EA46111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zinhos mais próximos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N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forma de generalizar o algoritmo anterior é procurar 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sos de treino mais semelh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sos vão depois “votar” para obter a classe prevista para o caso de t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tos vizinhos usar (qual o valor 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erentes aborda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zer uma estimativa global de qual o melhor valor d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r exemplo por validação cruzada (cross valida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zer uma estimativa local, isto é para cada caso de t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tencialmente mais adequada para “superfícies de decisão” muito heterógenas mas computacionalmente inefic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ar um valor fixo par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ão frequentes valores como 3 ou 5 (ímpares são melhores por causa dos empat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ficiente e normalmente com bon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B1F8-B005-484A-A5EE-7FF15DBCCD8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inguir o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zinhos mais próx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re 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sos mais semelhantes uns são-no mais do que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ão é “justo” que todos tenham a mesma importância na vo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ernel Densit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tância de cada vizinho mais próximo ao caso de teste é usada como parâmetro de uma função que dá um peso (importância) a cada vizinho na vo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os de treino mais próximos deverão ter mais importâ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unção de pesagem é normalmente chamad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pode ter muitas f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ma função bastante comum é o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auss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77840" y="5664240"/>
                <a:ext cx="2022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27F3-4C9E-4E14-81BD-FC0A7ADEB7C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rendizagem baseada em Instâncias para Reg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da uma observação pretende-se obter uma previsão numérica para a variável obj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método d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izinhos mais próximos pode ser u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evisão para o caso de teste é dada pelo valor médio da variável objectivo do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izinhos mais pró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novo põe-se a questão de dar mais importância aos vizinhos mais próximos o que leva à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ernel regres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 novo as mesma considerações podem ser feitas sobre funções de pesagem dos vizinhos (funçõ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ernel,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.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lmente uma previsão usando a regress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dada p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64960" y="5195880"/>
                <a:ext cx="3826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Ks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ieno</m:t>
                            </m:r>
                          </m:sub>
                        </m:sSub>
                      </m:sup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867280" y="5248440"/>
                <a:ext cx="26892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s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ieno</m:t>
                            </m:r>
                          </m:sub>
                        </m:sSub>
                      </m:sup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377240" y="547704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em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8682-9C20-4AB5-B6DC-C6069B59A8C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de regressã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561840"/>
            <a:ext cx="914400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rgura de banda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define a “área” à volta do caso de teste que contribui para a previsão do seu valor na variável obj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ores valores 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rnam o método menos “sensível” a variações locais da função, enquanto valores pequenos tornam o método muito “reactivo” a pequenas variaçõe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381400" y="1420920"/>
            <a:ext cx="3424320" cy="2166120"/>
            <a:chOff x="2381400" y="1420920"/>
            <a:chExt cx="3424320" cy="2166120"/>
          </a:xfrm>
        </p:grpSpPr>
        <p:sp>
          <p:nvSpPr>
            <p:cNvPr id="156" name=""/>
            <p:cNvSpPr/>
            <p:nvPr/>
          </p:nvSpPr>
          <p:spPr>
            <a:xfrm>
              <a:off x="3922560" y="1432080"/>
              <a:ext cx="1179720" cy="1530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778120" y="1428840"/>
              <a:ext cx="1440" cy="1536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8120" y="2962440"/>
              <a:ext cx="27957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8440" y="1666800"/>
              <a:ext cx="745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60720" y="1722600"/>
              <a:ext cx="745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8320" y="1792440"/>
              <a:ext cx="745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02000" y="1976400"/>
              <a:ext cx="745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2320" y="2160720"/>
              <a:ext cx="745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6280" y="2457360"/>
              <a:ext cx="74520" cy="748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35520" y="2701800"/>
              <a:ext cx="74520" cy="748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70240" y="2624040"/>
              <a:ext cx="74880" cy="748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27560" y="2676600"/>
              <a:ext cx="745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16280" y="2597040"/>
              <a:ext cx="74880" cy="748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8360" y="2430360"/>
              <a:ext cx="74520" cy="748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360" y="2360520"/>
              <a:ext cx="74520" cy="748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22960" y="2108160"/>
              <a:ext cx="745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73640" y="291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25920" y="292752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22560" y="2044800"/>
              <a:ext cx="11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14640" y="1432080"/>
              <a:ext cx="1187640" cy="1225440"/>
            </a:xfrm>
            <a:custGeom>
              <a:avLst/>
              <a:gdLst>
                <a:gd name="textAreaLeft" fmla="*/ 593640 w 1187640"/>
                <a:gd name="textAreaRight" fmla="*/ 1187640 w 1187640"/>
                <a:gd name="textAreaTop" fmla="*/ 0 h 1225440"/>
                <a:gd name="textAreaBottom" fmla="*/ 612720 h 1225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3941640" y="1409400"/>
              <a:ext cx="1187280" cy="1225800"/>
            </a:xfrm>
            <a:custGeom>
              <a:avLst/>
              <a:gdLst>
                <a:gd name="textAreaLeft" fmla="*/ 593640 w 1187280"/>
                <a:gd name="textAreaRight" fmla="*/ 1187280 w 1187280"/>
                <a:gd name="textAreaTop" fmla="*/ 0 h 1225800"/>
                <a:gd name="textAreaBottom" fmla="*/ 612720 h 1225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957480" y="1839960"/>
              <a:ext cx="18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11640" y="1515960"/>
              <a:ext cx="1440" cy="53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363920" y="1444680"/>
              <a:ext cx="1800" cy="60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643280" y="1434600"/>
              <a:ext cx="1800" cy="60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29120" y="1606680"/>
              <a:ext cx="1800" cy="43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98880" y="1530360"/>
              <a:ext cx="405000" cy="10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04960" y="1420920"/>
              <a:ext cx="50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(.)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21240" y="3260880"/>
              <a:ext cx="144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11640" y="3260880"/>
              <a:ext cx="180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22680" y="3297240"/>
              <a:ext cx="58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37160" y="324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1400" y="148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80808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86240" y="30272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80808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B348-FA48-46E0-A193-6A41133747A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inómios Locai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ma generalização da regressão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gressã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de ser entendida como um método que faz uma média pesada à volta de uma vizinhança de cada caso de t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édia pode ser vista como um polinómio de grau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generalização da regressã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siste em aumentar o grau do polinómio que é usado na aproximação local efectuada para cada caso de t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gressão linear local é um exemplo d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 cada caso de teste é obtida a sua vizinhança do modo habi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 esses casos de treino em vez de fazer 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t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um polinómio de grau zero, usa-se um polinómio de primeiro grau (regressão linear múltip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modelo linear resultante é obtido unicamente com os casos da vizinhança que são pesados dependendo da sua distância ao caso de t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9895-AD12-489C-9529-8982A2BC3A9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ressão linear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ada com a regressão linear múltipla a diferença reside na obtenção de um modelo para cada caso de teste, usando unicamente uma vizinhança de casos, cada um com peso diferente dado pelo funçã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 formulação é equivalente a re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zend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diag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camos resumidos a resolver a equação (ex. p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V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 qu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40160" y="2909880"/>
                <a:ext cx="2815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x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116760" y="3757680"/>
                <a:ext cx="2082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β=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613480" y="4054320"/>
                <a:ext cx="1960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x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066680" y="5511960"/>
                <a:ext cx="1791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β=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3BA7-D921-45DB-9FE7-D04502DC004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 da Aprendizagem Supervisi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 base nu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gisto histór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bservações pré-classificad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um fenómeno, consegui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rever a classificaçã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vas instânc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 mesmo fenóm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mo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200 amost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 água obtidas em diversos rios europeus. Para cada amostra temos análises diversas indicando por exemplo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valores de diversos indicadores químicos bem como outro tipo de informaçã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Além desta informação sobre cada amostra, foi ainda conduzida uma análise biológica ($$$) de cada amostra que nos mostrou qual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entração de alg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 amo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tende-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ver esta mesma concentraçã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sem fazer a análise biológica) par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vas amost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btidas nos rios para as quais possuímos unicamente os valores dos indicadores químicos acima refer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55BD-342B-4D5B-A91E-A5D74F1C210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semi-para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tativa de juntar as vantagens da regressão linear múltipla com as vantagens dos modelo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os parcialmente linear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piegelman, 197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 qu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é um modelo linear 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um model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forma de implementar estes mode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i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r um model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bre os resíduos (erros) do modelo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 todos os pontos dentro da vizinhanç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cular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r o erro do modelo linear par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 acrescenta-lo à previsão do modelo lin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to correspond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92320" y="5692680"/>
                <a:ext cx="4748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β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Ks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x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426E-99E4-4881-9071-3D41FB493D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Parcialmente Line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81200" y="1712880"/>
                <a:ext cx="5092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β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Ks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x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63360" y="2967120"/>
            <a:ext cx="4210200" cy="1328760"/>
            <a:chOff x="63360" y="2967120"/>
            <a:chExt cx="4210200" cy="1328760"/>
          </a:xfrm>
        </p:grpSpPr>
        <p:sp>
          <p:nvSpPr>
            <p:cNvPr id="204" name=""/>
            <p:cNvSpPr/>
            <p:nvPr/>
          </p:nvSpPr>
          <p:spPr>
            <a:xfrm>
              <a:off x="622440" y="2967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7920" y="3348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31880" y="3805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27240" y="3576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03520" y="32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98880" y="31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3360" y="4287960"/>
              <a:ext cx="4210200" cy="7920"/>
              <a:chOff x="63360" y="4287960"/>
              <a:chExt cx="4210200" cy="7920"/>
            </a:xfrm>
          </p:grpSpPr>
          <p:sp>
            <p:nvSpPr>
              <p:cNvPr id="211" name=""/>
              <p:cNvSpPr/>
              <p:nvPr/>
            </p:nvSpPr>
            <p:spPr>
              <a:xfrm>
                <a:off x="565200" y="4294080"/>
                <a:ext cx="29908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87760" y="4287960"/>
                <a:ext cx="685800" cy="144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360" y="4287960"/>
                <a:ext cx="685800" cy="144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-69840" y="2998800"/>
            <a:ext cx="4489560" cy="768240"/>
            <a:chOff x="-69840" y="2998800"/>
            <a:chExt cx="4489560" cy="768240"/>
          </a:xfrm>
        </p:grpSpPr>
        <p:sp>
          <p:nvSpPr>
            <p:cNvPr id="215" name=""/>
            <p:cNvSpPr/>
            <p:nvPr/>
          </p:nvSpPr>
          <p:spPr>
            <a:xfrm>
              <a:off x="146160" y="3043080"/>
              <a:ext cx="3524040" cy="60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8360" y="3646440"/>
              <a:ext cx="711360" cy="1206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-69840" y="2998800"/>
              <a:ext cx="711360" cy="1206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241280" y="4146840"/>
            <a:ext cx="349920" cy="459720"/>
            <a:chOff x="1241280" y="4146840"/>
            <a:chExt cx="349920" cy="459720"/>
          </a:xfrm>
        </p:grpSpPr>
        <p:sp>
          <p:nvSpPr>
            <p:cNvPr id="219" name=""/>
            <p:cNvSpPr/>
            <p:nvPr/>
          </p:nvSpPr>
          <p:spPr>
            <a:xfrm>
              <a:off x="1241280" y="414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34960" y="4148280"/>
              <a:ext cx="1800" cy="1713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359000" y="3176640"/>
            <a:ext cx="152280" cy="1006560"/>
            <a:chOff x="1359000" y="3176640"/>
            <a:chExt cx="152280" cy="1006560"/>
          </a:xfrm>
        </p:grpSpPr>
        <p:sp>
          <p:nvSpPr>
            <p:cNvPr id="222" name=""/>
            <p:cNvSpPr/>
            <p:nvPr/>
          </p:nvSpPr>
          <p:spPr>
            <a:xfrm>
              <a:off x="1359000" y="3176640"/>
              <a:ext cx="152280" cy="15228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434960" y="3268800"/>
              <a:ext cx="1800" cy="914400"/>
            </a:xfrm>
            <a:prstGeom prst="line">
              <a:avLst/>
            </a:prstGeom>
            <a:ln cap="rnd" w="9360">
              <a:solidFill>
                <a:srgbClr val="00cc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440" y="131436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- Correspondem 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418000" y="2733840"/>
            <a:ext cx="1689120" cy="1606320"/>
            <a:chOff x="5418000" y="2733840"/>
            <a:chExt cx="1689120" cy="1606320"/>
          </a:xfrm>
        </p:grpSpPr>
        <p:sp>
          <p:nvSpPr>
            <p:cNvPr id="226" name=""/>
            <p:cNvSpPr/>
            <p:nvPr/>
          </p:nvSpPr>
          <p:spPr>
            <a:xfrm>
              <a:off x="5418000" y="2733840"/>
              <a:ext cx="1689120" cy="1573200"/>
            </a:xfrm>
            <a:prstGeom prst="rect">
              <a:avLst/>
            </a:prstGeom>
            <a:solidFill>
              <a:srgbClr val="80808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6920" y="3112920"/>
              <a:ext cx="1800" cy="1227240"/>
            </a:xfrm>
            <a:custGeom>
              <a:avLst/>
              <a:gdLst/>
              <a:ahLst/>
              <a:rect l="l" t="t" r="r" b="b"/>
              <a:pathLst>
                <a:path w="1" h="3409">
                  <a:moveTo>
                    <a:pt x="0" y="0"/>
                  </a:moveTo>
                  <a:lnTo>
                    <a:pt x="0" y="3408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92760" y="3524400"/>
              <a:ext cx="1440" cy="815760"/>
            </a:xfrm>
            <a:custGeom>
              <a:avLst/>
              <a:gdLst/>
              <a:ahLst/>
              <a:rect l="l" t="t" r="r" b="b"/>
              <a:pathLst>
                <a:path w="1" h="2267">
                  <a:moveTo>
                    <a:pt x="0" y="0"/>
                  </a:moveTo>
                  <a:lnTo>
                    <a:pt x="0" y="2266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16720" y="3973680"/>
              <a:ext cx="1440" cy="360360"/>
            </a:xfrm>
            <a:custGeom>
              <a:avLst/>
              <a:gdLst/>
              <a:ahLst/>
              <a:rect l="l" t="t" r="r" b="b"/>
              <a:pathLst>
                <a:path w="1" h="1000">
                  <a:moveTo>
                    <a:pt x="0" y="0"/>
                  </a:moveTo>
                  <a:lnTo>
                    <a:pt x="0" y="999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2080" y="3735360"/>
              <a:ext cx="1440" cy="598680"/>
            </a:xfrm>
            <a:custGeom>
              <a:avLst/>
              <a:gdLst/>
              <a:ahLst/>
              <a:rect l="l" t="t" r="r" b="b"/>
              <a:pathLst>
                <a:path w="1" h="1661">
                  <a:moveTo>
                    <a:pt x="0" y="0"/>
                  </a:move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92760" y="4255920"/>
              <a:ext cx="450720" cy="1800"/>
            </a:xfrm>
            <a:custGeom>
              <a:avLst/>
              <a:gdLst/>
              <a:ahLst/>
              <a:rect l="l" t="t" r="r" b="b"/>
              <a:pathLst>
                <a:path w="1254" h="1">
                  <a:moveTo>
                    <a:pt x="0" y="0"/>
                  </a:moveTo>
                  <a:lnTo>
                    <a:pt x="1253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94320" y="4083120"/>
              <a:ext cx="768240" cy="6120"/>
            </a:xfrm>
            <a:custGeom>
              <a:avLst/>
              <a:gdLst/>
              <a:ahLst/>
              <a:rect l="l" t="t" r="r" b="b"/>
              <a:pathLst>
                <a:path w="2136" h="18">
                  <a:moveTo>
                    <a:pt x="0" y="0"/>
                  </a:moveTo>
                  <a:lnTo>
                    <a:pt x="2135" y="17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49960" y="4173480"/>
              <a:ext cx="273240" cy="1800"/>
            </a:xfrm>
            <a:custGeom>
              <a:avLst/>
              <a:gdLst/>
              <a:ahLst/>
              <a:rect l="l" t="t" r="r" b="b"/>
              <a:pathLst>
                <a:path w="760" h="1">
                  <a:moveTo>
                    <a:pt x="0" y="0"/>
                  </a:moveTo>
                  <a:lnTo>
                    <a:pt x="759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62560" y="4006800"/>
              <a:ext cx="749520" cy="1800"/>
            </a:xfrm>
            <a:custGeom>
              <a:avLst/>
              <a:gdLst/>
              <a:ahLst/>
              <a:rect l="l" t="t" r="r" b="b"/>
              <a:pathLst>
                <a:path w="2082" h="1">
                  <a:moveTo>
                    <a:pt x="0" y="0"/>
                  </a:moveTo>
                  <a:lnTo>
                    <a:pt x="2081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71880" y="3000240"/>
            <a:ext cx="4210200" cy="1328760"/>
            <a:chOff x="4871880" y="3000240"/>
            <a:chExt cx="4210200" cy="1328760"/>
          </a:xfrm>
        </p:grpSpPr>
        <p:sp>
          <p:nvSpPr>
            <p:cNvPr id="236" name=""/>
            <p:cNvSpPr/>
            <p:nvPr/>
          </p:nvSpPr>
          <p:spPr>
            <a:xfrm>
              <a:off x="5430960" y="30002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6440" y="3381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0400" y="3838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35760" y="3610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12040" y="32479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3152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871880" y="4321080"/>
              <a:ext cx="4210200" cy="7920"/>
              <a:chOff x="4871880" y="4321080"/>
              <a:chExt cx="4210200" cy="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5373720" y="4327560"/>
                <a:ext cx="299088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96280" y="4321080"/>
                <a:ext cx="685800" cy="18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71880" y="4321080"/>
                <a:ext cx="685800" cy="18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4738680" y="3032280"/>
            <a:ext cx="4489560" cy="768240"/>
            <a:chOff x="4738680" y="3032280"/>
            <a:chExt cx="4489560" cy="768240"/>
          </a:xfrm>
        </p:grpSpPr>
        <p:sp>
          <p:nvSpPr>
            <p:cNvPr id="247" name=""/>
            <p:cNvSpPr/>
            <p:nvPr/>
          </p:nvSpPr>
          <p:spPr>
            <a:xfrm>
              <a:off x="4954680" y="3076560"/>
              <a:ext cx="3524040" cy="60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16880" y="3679920"/>
              <a:ext cx="711360" cy="1206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8680" y="3032280"/>
              <a:ext cx="711360" cy="1206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049800" y="4180320"/>
            <a:ext cx="349920" cy="459720"/>
            <a:chOff x="6049800" y="4180320"/>
            <a:chExt cx="349920" cy="459720"/>
          </a:xfrm>
        </p:grpSpPr>
        <p:sp>
          <p:nvSpPr>
            <p:cNvPr id="251" name=""/>
            <p:cNvSpPr/>
            <p:nvPr/>
          </p:nvSpPr>
          <p:spPr>
            <a:xfrm>
              <a:off x="6049800" y="4180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3480" y="4181400"/>
              <a:ext cx="1800" cy="1713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30960" y="2948040"/>
            <a:ext cx="1657080" cy="1042920"/>
            <a:chOff x="5430960" y="2948040"/>
            <a:chExt cx="1657080" cy="1042920"/>
          </a:xfrm>
        </p:grpSpPr>
        <p:grpSp>
          <p:nvGrpSpPr>
            <p:cNvPr id="254" name=""/>
            <p:cNvGrpSpPr/>
            <p:nvPr/>
          </p:nvGrpSpPr>
          <p:grpSpPr>
            <a:xfrm>
              <a:off x="5716440" y="3168720"/>
              <a:ext cx="349560" cy="365040"/>
              <a:chOff x="5716440" y="3168720"/>
              <a:chExt cx="349560" cy="365040"/>
            </a:xfrm>
          </p:grpSpPr>
          <p:sp>
            <p:nvSpPr>
              <p:cNvPr id="255" name=""/>
              <p:cNvSpPr/>
              <p:nvPr/>
            </p:nvSpPr>
            <p:spPr>
              <a:xfrm>
                <a:off x="5762520" y="3168720"/>
                <a:ext cx="303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5716440" y="3219120"/>
                <a:ext cx="152640" cy="314640"/>
                <a:chOff x="5716440" y="3219120"/>
                <a:chExt cx="152640" cy="3146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6440" y="3381480"/>
                  <a:ext cx="152640" cy="152280"/>
                </a:xfrm>
                <a:prstGeom prst="ellipse">
                  <a:avLst/>
                </a:prstGeom>
                <a:solidFill>
                  <a:srgbClr val="ccccff"/>
                </a:solidFill>
                <a:ln w="572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5792760" y="3219120"/>
                  <a:ext cx="1440" cy="253800"/>
                </a:xfrm>
                <a:prstGeom prst="line">
                  <a:avLst/>
                </a:prstGeom>
                <a:ln w="5724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5430960" y="2948040"/>
              <a:ext cx="368280" cy="301320"/>
              <a:chOff x="5430960" y="2948040"/>
              <a:chExt cx="368280" cy="30132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5430960" y="3000240"/>
                <a:ext cx="152280" cy="165240"/>
                <a:chOff x="5430960" y="3000240"/>
                <a:chExt cx="152280" cy="165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430960" y="3000240"/>
                  <a:ext cx="152280" cy="152640"/>
                </a:xfrm>
                <a:prstGeom prst="ellipse">
                  <a:avLst/>
                </a:prstGeom>
                <a:solidFill>
                  <a:srgbClr val="ccccff"/>
                </a:solidFill>
                <a:ln w="572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506920" y="3089160"/>
                  <a:ext cx="1800" cy="76320"/>
                </a:xfrm>
                <a:prstGeom prst="line">
                  <a:avLst/>
                </a:prstGeom>
                <a:ln w="5724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5495760" y="2948040"/>
                <a:ext cx="303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440400" y="3333240"/>
              <a:ext cx="336600" cy="657720"/>
              <a:chOff x="6440400" y="3333240"/>
              <a:chExt cx="336600" cy="65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6473880" y="3494160"/>
                <a:ext cx="303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40400" y="3838680"/>
                <a:ext cx="152640" cy="152280"/>
              </a:xfrm>
              <a:prstGeom prst="ellipse">
                <a:avLst/>
              </a:prstGeom>
              <a:solidFill>
                <a:srgbClr val="ccccff"/>
              </a:solidFill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516720" y="3333240"/>
                <a:ext cx="1440" cy="590760"/>
              </a:xfrm>
              <a:prstGeom prst="line">
                <a:avLst/>
              </a:prstGeom>
              <a:ln w="5724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21560" y="3354480"/>
              <a:ext cx="366480" cy="407880"/>
              <a:chOff x="6721560" y="3354480"/>
              <a:chExt cx="366480" cy="407880"/>
            </a:xfrm>
          </p:grpSpPr>
          <p:sp>
            <p:nvSpPr>
              <p:cNvPr id="269" name=""/>
              <p:cNvSpPr/>
              <p:nvPr/>
            </p:nvSpPr>
            <p:spPr>
              <a:xfrm>
                <a:off x="6721560" y="3354480"/>
                <a:ext cx="303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935760" y="3610080"/>
                <a:ext cx="152280" cy="152280"/>
              </a:xfrm>
              <a:prstGeom prst="ellipse">
                <a:avLst/>
              </a:prstGeom>
              <a:solidFill>
                <a:srgbClr val="ccccff"/>
              </a:solidFill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012080" y="3429000"/>
                <a:ext cx="1440" cy="254160"/>
              </a:xfrm>
              <a:prstGeom prst="line">
                <a:avLst/>
              </a:prstGeom>
              <a:ln w="5724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3168720" y="4678200"/>
            <a:ext cx="1689120" cy="1606680"/>
            <a:chOff x="3168720" y="4678200"/>
            <a:chExt cx="1689120" cy="1606680"/>
          </a:xfrm>
        </p:grpSpPr>
        <p:sp>
          <p:nvSpPr>
            <p:cNvPr id="273" name=""/>
            <p:cNvSpPr/>
            <p:nvPr/>
          </p:nvSpPr>
          <p:spPr>
            <a:xfrm>
              <a:off x="3168720" y="4678200"/>
              <a:ext cx="1689120" cy="1575000"/>
            </a:xfrm>
            <a:prstGeom prst="rect">
              <a:avLst/>
            </a:prstGeom>
            <a:solidFill>
              <a:srgbClr val="80808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7640" y="5057640"/>
              <a:ext cx="1440" cy="1227240"/>
            </a:xfrm>
            <a:custGeom>
              <a:avLst/>
              <a:gdLst/>
              <a:ahLst/>
              <a:rect l="l" t="t" r="r" b="b"/>
              <a:pathLst>
                <a:path w="1" h="3410">
                  <a:moveTo>
                    <a:pt x="0" y="0"/>
                  </a:moveTo>
                  <a:lnTo>
                    <a:pt x="0" y="3409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3480" y="5468760"/>
              <a:ext cx="1440" cy="816120"/>
            </a:xfrm>
            <a:custGeom>
              <a:avLst/>
              <a:gdLst/>
              <a:ahLst/>
              <a:rect l="l" t="t" r="r" b="b"/>
              <a:pathLst>
                <a:path w="1" h="2267">
                  <a:moveTo>
                    <a:pt x="0" y="0"/>
                  </a:moveTo>
                  <a:lnTo>
                    <a:pt x="0" y="2266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5918040"/>
              <a:ext cx="1800" cy="360360"/>
            </a:xfrm>
            <a:custGeom>
              <a:avLst/>
              <a:gdLst/>
              <a:ahLst/>
              <a:rect l="l" t="t" r="r" b="b"/>
              <a:pathLst>
                <a:path w="1" h="1000">
                  <a:moveTo>
                    <a:pt x="0" y="0"/>
                  </a:moveTo>
                  <a:lnTo>
                    <a:pt x="0" y="999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62440" y="5680080"/>
              <a:ext cx="1800" cy="598320"/>
            </a:xfrm>
            <a:custGeom>
              <a:avLst/>
              <a:gdLst/>
              <a:ahLst/>
              <a:rect l="l" t="t" r="r" b="b"/>
              <a:pathLst>
                <a:path w="1" h="1661">
                  <a:moveTo>
                    <a:pt x="0" y="0"/>
                  </a:moveTo>
                  <a:lnTo>
                    <a:pt x="0" y="166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43480" y="6200640"/>
              <a:ext cx="450720" cy="1800"/>
            </a:xfrm>
            <a:custGeom>
              <a:avLst/>
              <a:gdLst/>
              <a:ahLst/>
              <a:rect l="l" t="t" r="r" b="b"/>
              <a:pathLst>
                <a:path w="1254" h="1">
                  <a:moveTo>
                    <a:pt x="0" y="0"/>
                  </a:moveTo>
                  <a:lnTo>
                    <a:pt x="1253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44680" y="6027840"/>
              <a:ext cx="768600" cy="6120"/>
            </a:xfrm>
            <a:custGeom>
              <a:avLst/>
              <a:gdLst/>
              <a:ahLst/>
              <a:rect l="l" t="t" r="r" b="b"/>
              <a:pathLst>
                <a:path w="2136" h="18">
                  <a:moveTo>
                    <a:pt x="0" y="0"/>
                  </a:moveTo>
                  <a:lnTo>
                    <a:pt x="2135" y="17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0680" y="6118200"/>
              <a:ext cx="272880" cy="1440"/>
            </a:xfrm>
            <a:custGeom>
              <a:avLst/>
              <a:gdLst/>
              <a:ahLst/>
              <a:rect l="l" t="t" r="r" b="b"/>
              <a:pathLst>
                <a:path w="760" h="1">
                  <a:moveTo>
                    <a:pt x="0" y="0"/>
                  </a:moveTo>
                  <a:lnTo>
                    <a:pt x="759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3280" y="5950080"/>
              <a:ext cx="749160" cy="1440"/>
            </a:xfrm>
            <a:custGeom>
              <a:avLst/>
              <a:gdLst/>
              <a:ahLst/>
              <a:rect l="l" t="t" r="r" b="b"/>
              <a:pathLst>
                <a:path w="2082" h="1">
                  <a:moveTo>
                    <a:pt x="0" y="0"/>
                  </a:moveTo>
                  <a:lnTo>
                    <a:pt x="2081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6480">
              <a:solidFill>
                <a:srgbClr val="00cc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622600" y="4944960"/>
            <a:ext cx="4209840" cy="1328760"/>
            <a:chOff x="2622600" y="4944960"/>
            <a:chExt cx="4209840" cy="1328760"/>
          </a:xfrm>
        </p:grpSpPr>
        <p:sp>
          <p:nvSpPr>
            <p:cNvPr id="283" name=""/>
            <p:cNvSpPr/>
            <p:nvPr/>
          </p:nvSpPr>
          <p:spPr>
            <a:xfrm>
              <a:off x="3181320" y="4944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67160" y="532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91120" y="5783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86480" y="555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62400" y="5192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57760" y="5097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622600" y="6265800"/>
              <a:ext cx="4209840" cy="7920"/>
              <a:chOff x="2622600" y="6265800"/>
              <a:chExt cx="4209840" cy="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3124080" y="6272280"/>
                <a:ext cx="299088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46640" y="6265800"/>
                <a:ext cx="685800" cy="18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622600" y="6265800"/>
                <a:ext cx="685800" cy="180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2489040" y="4976640"/>
            <a:ext cx="4489560" cy="768600"/>
            <a:chOff x="2489040" y="4976640"/>
            <a:chExt cx="4489560" cy="768600"/>
          </a:xfrm>
        </p:grpSpPr>
        <p:sp>
          <p:nvSpPr>
            <p:cNvPr id="294" name=""/>
            <p:cNvSpPr/>
            <p:nvPr/>
          </p:nvSpPr>
          <p:spPr>
            <a:xfrm>
              <a:off x="2705040" y="5021280"/>
              <a:ext cx="3524400" cy="60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67600" y="5624640"/>
              <a:ext cx="711000" cy="1206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89040" y="4976640"/>
              <a:ext cx="711360" cy="12096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800160" y="6125040"/>
            <a:ext cx="349920" cy="459720"/>
            <a:chOff x="3800160" y="6125040"/>
            <a:chExt cx="349920" cy="459720"/>
          </a:xfrm>
        </p:grpSpPr>
        <p:sp>
          <p:nvSpPr>
            <p:cNvPr id="298" name=""/>
            <p:cNvSpPr/>
            <p:nvPr/>
          </p:nvSpPr>
          <p:spPr>
            <a:xfrm>
              <a:off x="3800160" y="612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94200" y="6126120"/>
              <a:ext cx="1440" cy="1713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181320" y="4892760"/>
            <a:ext cx="1657440" cy="1042920"/>
            <a:chOff x="3181320" y="4892760"/>
            <a:chExt cx="1657440" cy="1042920"/>
          </a:xfrm>
        </p:grpSpPr>
        <p:grpSp>
          <p:nvGrpSpPr>
            <p:cNvPr id="301" name=""/>
            <p:cNvGrpSpPr/>
            <p:nvPr/>
          </p:nvGrpSpPr>
          <p:grpSpPr>
            <a:xfrm>
              <a:off x="3467160" y="5114880"/>
              <a:ext cx="349200" cy="363600"/>
              <a:chOff x="3467160" y="5114880"/>
              <a:chExt cx="349200" cy="363600"/>
            </a:xfrm>
          </p:grpSpPr>
          <p:sp>
            <p:nvSpPr>
              <p:cNvPr id="302" name=""/>
              <p:cNvSpPr/>
              <p:nvPr/>
            </p:nvSpPr>
            <p:spPr>
              <a:xfrm>
                <a:off x="3513240" y="5114880"/>
                <a:ext cx="303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3467160" y="5163840"/>
                <a:ext cx="152280" cy="314640"/>
                <a:chOff x="3467160" y="5163840"/>
                <a:chExt cx="152280" cy="314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467160" y="5326200"/>
                  <a:ext cx="152280" cy="152280"/>
                </a:xfrm>
                <a:prstGeom prst="ellipse">
                  <a:avLst/>
                </a:prstGeom>
                <a:solidFill>
                  <a:srgbClr val="ccccff"/>
                </a:solidFill>
                <a:ln w="572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3543480" y="5163840"/>
                  <a:ext cx="1440" cy="253800"/>
                </a:xfrm>
                <a:prstGeom prst="line">
                  <a:avLst/>
                </a:prstGeom>
                <a:ln w="5724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3181320" y="4892760"/>
              <a:ext cx="368280" cy="301320"/>
              <a:chOff x="3181320" y="4892760"/>
              <a:chExt cx="368280" cy="301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3181320" y="4944960"/>
                <a:ext cx="152280" cy="165240"/>
                <a:chOff x="3181320" y="4944960"/>
                <a:chExt cx="152280" cy="165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3181320" y="4944960"/>
                  <a:ext cx="152280" cy="152640"/>
                </a:xfrm>
                <a:prstGeom prst="ellipse">
                  <a:avLst/>
                </a:prstGeom>
                <a:solidFill>
                  <a:srgbClr val="ccccff"/>
                </a:solidFill>
                <a:ln w="572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257640" y="5033880"/>
                  <a:ext cx="1440" cy="76320"/>
                </a:xfrm>
                <a:prstGeom prst="line">
                  <a:avLst/>
                </a:prstGeom>
                <a:ln w="5724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3246480" y="4892760"/>
                <a:ext cx="303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191120" y="5277960"/>
              <a:ext cx="336600" cy="657720"/>
              <a:chOff x="4191120" y="5277960"/>
              <a:chExt cx="336600" cy="657720"/>
            </a:xfrm>
          </p:grpSpPr>
          <p:sp>
            <p:nvSpPr>
              <p:cNvPr id="312" name=""/>
              <p:cNvSpPr/>
              <p:nvPr/>
            </p:nvSpPr>
            <p:spPr>
              <a:xfrm>
                <a:off x="4224240" y="5438880"/>
                <a:ext cx="303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91120" y="5783400"/>
                <a:ext cx="152280" cy="152280"/>
              </a:xfrm>
              <a:prstGeom prst="ellipse">
                <a:avLst/>
              </a:prstGeom>
              <a:solidFill>
                <a:srgbClr val="ccccff"/>
              </a:solidFill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267080" y="5277960"/>
                <a:ext cx="1800" cy="590760"/>
              </a:xfrm>
              <a:prstGeom prst="line">
                <a:avLst/>
              </a:prstGeom>
              <a:ln w="5724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471920" y="5299200"/>
              <a:ext cx="366840" cy="407880"/>
              <a:chOff x="4471920" y="5299200"/>
              <a:chExt cx="366840" cy="407880"/>
            </a:xfrm>
          </p:grpSpPr>
          <p:sp>
            <p:nvSpPr>
              <p:cNvPr id="316" name=""/>
              <p:cNvSpPr/>
              <p:nvPr/>
            </p:nvSpPr>
            <p:spPr>
              <a:xfrm>
                <a:off x="4471920" y="5299200"/>
                <a:ext cx="303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i="1" lang="en-GB" sz="1200" spc="-1" strike="noStrike">
                    <a:solidFill>
                      <a:srgbClr val="00cc99"/>
                    </a:solidFill>
                    <a:latin typeface="Times New Roman"/>
                  </a:rPr>
                  <a:t>e</a:t>
                </a:r>
                <a:r>
                  <a:rPr b="0" lang="en-GB" sz="1200" spc="-1" strike="noStrike" baseline="-25000">
                    <a:solidFill>
                      <a:srgbClr val="00cc99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6480" y="5554800"/>
                <a:ext cx="152280" cy="152280"/>
              </a:xfrm>
              <a:prstGeom prst="ellipse">
                <a:avLst/>
              </a:prstGeom>
              <a:solidFill>
                <a:srgbClr val="ccccff"/>
              </a:solidFill>
              <a:ln w="57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762440" y="5373360"/>
                <a:ext cx="1800" cy="253800"/>
              </a:xfrm>
              <a:prstGeom prst="line">
                <a:avLst/>
              </a:prstGeom>
              <a:ln w="5724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917880" y="5154480"/>
            <a:ext cx="152640" cy="1006560"/>
            <a:chOff x="3917880" y="5154480"/>
            <a:chExt cx="152640" cy="1006560"/>
          </a:xfrm>
        </p:grpSpPr>
        <p:sp>
          <p:nvSpPr>
            <p:cNvPr id="320" name=""/>
            <p:cNvSpPr/>
            <p:nvPr/>
          </p:nvSpPr>
          <p:spPr>
            <a:xfrm>
              <a:off x="3917880" y="5154480"/>
              <a:ext cx="152640" cy="15264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994200" y="5246640"/>
              <a:ext cx="1440" cy="914400"/>
            </a:xfrm>
            <a:prstGeom prst="line">
              <a:avLst/>
            </a:prstGeom>
            <a:ln cap="rnd" w="9360">
              <a:solidFill>
                <a:srgbClr val="00cc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979800" y="5281560"/>
            <a:ext cx="336600" cy="349200"/>
            <a:chOff x="3979800" y="5281560"/>
            <a:chExt cx="336600" cy="349200"/>
          </a:xfrm>
        </p:grpSpPr>
        <p:sp>
          <p:nvSpPr>
            <p:cNvPr id="323" name=""/>
            <p:cNvSpPr/>
            <p:nvPr/>
          </p:nvSpPr>
          <p:spPr>
            <a:xfrm>
              <a:off x="3994200" y="5281560"/>
              <a:ext cx="1440" cy="34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79800" y="5302080"/>
              <a:ext cx="336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GB" sz="1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GB" sz="1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i="1" lang="en-GB" sz="1200" spc="-1" strike="noStrike" baseline="-25000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917880" y="5573880"/>
            <a:ext cx="152640" cy="152280"/>
          </a:xfrm>
          <a:prstGeom prst="ellipse">
            <a:avLst/>
          </a:prstGeom>
          <a:solidFill>
            <a:srgbClr val="ff66cc"/>
          </a:solidFill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4FD7-4B80-4506-B7B5-F9B82BF550B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aprendizagem baseada em instâncias têm como questões princip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finição de uma métrica no espaço multidimensional definido pelos a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finição de uma função de distância entre dois 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função de pesagem para cada atrib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 função de pesagem dos casos na vizinha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finição do tamanho da vizinha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finição do modelo local que é usado para obter a previsão com base nos casos de treino “dentro” da vizinhança defin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B61F-9192-4A75-BD61-45E14A3E6E97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as classes de problemas d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rendizagem Supervisio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as de Classificação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tístic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álise Discriminan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da objecto do registo histórico é classificado com um “símbolo” de um conjunto fin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mplo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cientes classificados como “com cancro” ou “sem cancr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didos de crédito classificados como “Risco elevado”, “Risco médio” ou “Sem risc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as de Reg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da objecto do registo histórico tem uma “classificação” nu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entração das algas mencionadas atr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onas residenciais com um valor médio por metro quadrado das c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xa de crescimento dos lucros de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09CA-2CDC-4366-82B6-D786164C424A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as Abordagens distintas a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endizagem baseada em Modelos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ager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r um modelo com base no registo histórico disponível que de alguma forma “explique” essas observ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-se que existe uma função (modelo) tal qu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f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e tenta-se obter (induzir) essa mesma fun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modelo obtido pode depois ser usado para fazer previsões para novos casos do mesm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endizagem baseada em Instâncias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azy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é obtido qualquer modelo do registo histórico existente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azy lear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se assume qualquer função geral que “rege” o fenóm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da uma nova observação procuram-se as observaçõe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is semelhant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 registo histórico, e usam-se as classificações desses casos mais semelhantes para prever a classificação do novo 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22AB-B73C-4402-82FD-DA262695D3E5}" type="slidenum">
              <a:t>4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ntagens e Desvantagen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 Aprendizagem baseada em Instâ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sência de qualquer assunção relativamente à forma do modelo a aproxi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iciência computacional da fase de aprendiz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icamente guardar os casos observados em memó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cidade do mé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ácil de desenvolver um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dade com que se lida quer com regressão quer com classif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nde aplic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oricamente pode aproximar qualquer função desde que os seus parâmetros sejam escolhidos adequa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sência de qualquer modelo para “mostrar” ao utiliz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lta de eficiência computacional na fase de prev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bilidade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utli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variáveis ir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1CCD-8C4C-4048-A7B2-D44531EEF216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aprendizagem baseada em instância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questões fundam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e tipo de métodos giram à volta da noção de semelhança entre observ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nção deste métodos: instâncias com valores semelhantes nas variáveis de entrada (atributos dos casos) deverão ter valores semelhantes para a variável obje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questão fundamental é pois como definir a semelhança entre dois 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melhança é normalmente aferida à custa da definição de uma métrica no espaço multidimensional definido pelas variáveis de ent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da esta métrica podemos definir uma função de distância entre dois pontos (duas observações)neste espaço multidimen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ções mais próximas umas das outras são consideradas mais semelh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4B90-0AA2-4B5E-BA9F-7375285F393B}" type="slidenum">
              <a:t>6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 exemplo muito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82600"/>
            <a:ext cx="5484960" cy="4113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90600" y="2362320"/>
            <a:ext cx="514440" cy="160020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7240" y="2860560"/>
            <a:ext cx="962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7120" y="1441440"/>
            <a:ext cx="370512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observ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,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800" spc="-1" strike="noStrike">
                <a:solidFill>
                  <a:srgbClr val="00cc99"/>
                </a:solidFill>
                <a:latin typeface="Arial"/>
              </a:rPr>
              <a:t>4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,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800" spc="-1" strike="noStrike">
                <a:solidFill>
                  <a:srgbClr val="00cc99"/>
                </a:solidFill>
                <a:latin typeface="Arial"/>
              </a:rPr>
              <a:t>3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,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800" spc="-1" strike="noStrike">
                <a:solidFill>
                  <a:srgbClr val="00cc99"/>
                </a:solidFill>
                <a:latin typeface="Arial"/>
              </a:rPr>
              <a:t>4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,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800" spc="-1" strike="noStrike">
                <a:solidFill>
                  <a:srgbClr val="00cc99"/>
                </a:solidFill>
                <a:latin typeface="Arial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ndo a distância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...+(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8.062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.09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9.4868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9080" y="19782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35200" y="38973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8480" y="19699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27360" y="2724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AE28-D00D-4E7A-96F9-D0891A0570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ções de distâ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ância Eucli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ância de Manhat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unção distância-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Minkow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forma genérica de representar funções de dist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9960" y="1698480"/>
                <a:ext cx="8137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,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46200" y="2982960"/>
                <a:ext cx="71722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99960" y="4122720"/>
                <a:ext cx="8274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,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,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,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,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,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,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43120" y="5224320"/>
            <a:ext cx="562284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6DC1-FA72-4127-93AC-6DBBDFA596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ributos (variáveis) nominais (discretos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ste tipo de valores não existe qualquer ordem entre 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r) = {verde, azul, vermelho, amarelo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do se está a verificar a semelhança entre dois casos que possuem atributos nominais a única coisa que se pode dizer é se ambos têm o mesmo valor nesses atributos ou n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É usual considerar que para atributos nomina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35400" y="4676760"/>
                <a:ext cx="32144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  se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≠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se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=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844B-B513-4C38-9BED-1CBEBD28C0E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s Torgo</dc:creator>
  <dc:description/>
  <dc:language>en-US</dc:language>
  <cp:lastModifiedBy>ltorgo</cp:lastModifiedBy>
  <cp:revision>0</cp:revision>
  <dc:subject/>
  <dc:title>Bases de Dados</dc:title>
</cp:coreProperties>
</file>