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A0D6-0A7F-4577-BCA5-695D59904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321B-1FF8-44DC-A322-105809893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AB59-4EA8-4502-B690-3C2EF821A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32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264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32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264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2062-99E7-4A0D-8A1C-E7441EA65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EB63-E49A-497A-AE15-02C8A1842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32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264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32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264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E655-7602-45BE-9AA7-0042AF9E1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8725-2721-48D2-A9E4-0F2C1A45C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1D72-C6F0-4CE9-9D74-EB327A35D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3616-4A13-4680-B11B-5E769C8F3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82F3-E972-4B07-B821-63853FFD4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D35C-3F1F-4917-A7C5-D22EE6716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5213-3E97-485D-BD31-35B928CF2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3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0F71D-D172-4DED-8522-6CDCBABF6F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507000"/>
            <a:ext cx="8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Luis To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976040"/>
            <a:ext cx="7912080" cy="1560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rendizagem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des Neur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uis To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orgo@liaad.up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9280" y="6399000"/>
            <a:ext cx="65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uldade de Econom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 do 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quitecturas de red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eed-forwa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ulti-camada</a:t>
            </a:r>
            <a:br>
              <a:rPr sz="32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ultilayer Feed-forward NN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ultilayer Perceptr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MLPs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possível arquitectura multi-camad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3680" y="558000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ada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57208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ada escon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0040" y="55720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ada de 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06720" y="4689360"/>
            <a:ext cx="218880" cy="8985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895560" y="4927320"/>
            <a:ext cx="20880" cy="679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5682960" y="4133520"/>
            <a:ext cx="261720" cy="141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2920" y="220500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12920" y="259092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12920" y="297648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2920" y="413388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12920" y="336240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2920" y="3747960"/>
            <a:ext cx="376200" cy="32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8320" y="2436840"/>
            <a:ext cx="393480" cy="377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78320" y="2901960"/>
            <a:ext cx="393480" cy="377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87680" y="3368520"/>
            <a:ext cx="393840" cy="3780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87680" y="3835440"/>
            <a:ext cx="393840" cy="377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81200" y="2330280"/>
            <a:ext cx="914400" cy="2318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1200" y="2330280"/>
            <a:ext cx="897120" cy="6811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81200" y="2330280"/>
            <a:ext cx="932040" cy="1182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81200" y="2347920"/>
            <a:ext cx="914400" cy="1631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581200" y="2614680"/>
            <a:ext cx="879480" cy="11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81200" y="2724120"/>
            <a:ext cx="879480" cy="322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81200" y="2741760"/>
            <a:ext cx="897120" cy="7538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81200" y="2741760"/>
            <a:ext cx="879480" cy="1201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81200" y="2668680"/>
            <a:ext cx="843120" cy="433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581200" y="3063600"/>
            <a:ext cx="879480" cy="20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81200" y="3100320"/>
            <a:ext cx="897120" cy="430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81200" y="3083040"/>
            <a:ext cx="879480" cy="877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581200" y="2705040"/>
            <a:ext cx="879480" cy="773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581200" y="3117960"/>
            <a:ext cx="860400" cy="379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81200" y="3476520"/>
            <a:ext cx="914400" cy="9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81200" y="3495600"/>
            <a:ext cx="879480" cy="484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581200" y="2759040"/>
            <a:ext cx="879480" cy="11145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581200" y="3169800"/>
            <a:ext cx="860400" cy="6858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581200" y="3619080"/>
            <a:ext cx="879480" cy="236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81200" y="3871800"/>
            <a:ext cx="879480" cy="125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581200" y="2793960"/>
            <a:ext cx="860400" cy="14558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581200" y="3206880"/>
            <a:ext cx="860400" cy="1025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581200" y="3602160"/>
            <a:ext cx="879480" cy="630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581200" y="4066920"/>
            <a:ext cx="87948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89480" y="3090960"/>
            <a:ext cx="393840" cy="377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90880" y="2617920"/>
            <a:ext cx="1379520" cy="5918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54520" y="3102120"/>
            <a:ext cx="1415880" cy="16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90880" y="3333240"/>
            <a:ext cx="1327320" cy="236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873600" y="3405240"/>
            <a:ext cx="1379520" cy="595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32240" y="242712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5760" y="2060640"/>
            <a:ext cx="47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j,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2080" y="1844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93960" y="1763640"/>
            <a:ext cx="58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k,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84480" y="174636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567D-ABC1-4422-8394-A4C03577F7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 algoritm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ack-propag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a redes multi-cam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e é o algoritmo de aprendizagem mais popular para este tipo de re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seu modo de proceder tem semelhanças com a aprendizagem em redes de percep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da exemplo é apresentado à entrada da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 a rede produz o output correcto nada é fe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 existe um erro é necessário reajustar os pesos da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 ajuste é simples nas redes de perceptrons pois só existe uma ligação entre os nós de input e o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ste tipo de redes temos que dividir o erro pelos diferentes pesos que contribuem para o output da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0766-0D88-42A5-885F-5B4257C564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ropagação do erro para trás como forma de actualização dos p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rro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o erro na unidade de outpu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gra de actualização dos pesos das ligações das unidades escondidas par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 qu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a derivada da função de activaç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 actualizar os pesos das ligações das unidades de entrada para as unidades escondidas temos que arranjar uma quantidade parecida com o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rro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qui entra a ideia da propagação para tr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da unidade escondid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responsável por alguma fracção do erro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nos nós de saída a que está ligada. Assim cada val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ai ser dividido de acordo com o peso da ligação entre a unidade escondida e a unidade de saída em causa, propagando assim os erros para trá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712880" y="2519280"/>
                <a:ext cx="5756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η</m:t>
                    </m:r>
                    <m:r>
                      <m:t xml:space="preserve"> 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m que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Err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333440" y="6354720"/>
                <a:ext cx="2119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,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700520" y="6310440"/>
                <a:ext cx="3229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,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,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η</m:t>
                    </m:r>
                    <m:r>
                      <m:t xml:space="preserve"> 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6C52-3430-4788-BAC0-8C5438122E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 Algoritmo Back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ÇÃO BackPropagation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Retorn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 cada exemplo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tencente 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a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utputNN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r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r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j,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j,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 cada camada anterior da rede Fa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j,i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k,j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k,j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é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ve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orna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DCD1-3774-4A14-8C8A-F062FC7F663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umas referência sobre redes neuronais artifi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1440" y="1295280"/>
            <a:ext cx="878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cCulloch,W. Pitts,W. (1943) : A logical calculus of the ideas immanent in nervous activity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lletin of Mathematical Biophysi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115-13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sky,M., Papert,S. (1969) 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ceptrons : an introduction to computational geomet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MIT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jas,R. (1996) 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al Networ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Springer-Ver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senblatt,F. (1958) : The perceptron : a probabilistic model for information storage and organization in the brain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ogical Re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386-4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D24F-38E7-46C7-841F-0E25D24DE021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es Neuronais Artifi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os com forte inspiração bi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Culloch e Pitts (1943) propuseram o primeiro modelo artificial de um neurón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rede neuronal é composta por um conjunto d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nida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neurónios), que estão ligados p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exõ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que têm associado u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s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a unidade tem também associado u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ível de activaçã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bem como meios para actualizar o valor do nível de activ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umas unidades estão ligadas ao exterior. Temos unidades d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tra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 unidades d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aí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aprendizagem numa rede neuronal consiste na actualização dos pesos das ligações entre os neurón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5480" y="28195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D7A9-31CA-483C-8BC8-4AA15FB40B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a Unidade Computacional (neurónio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3249360"/>
            <a:ext cx="91440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a unidade cumpre uma função si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be as suas entradas e calcula a sua saída (o seu novo nível de activaç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cálculo é dividido em duas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 computação linear (função de entrada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 computação não-linear (função de activaçã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720" y="1155600"/>
            <a:ext cx="3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76480" y="1084320"/>
            <a:ext cx="981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92200" y="1379520"/>
            <a:ext cx="603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j,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8280" y="194472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gaçõ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66480" y="17542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gaçõ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82840" y="251784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ção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54440" y="2525760"/>
            <a:ext cx="134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ção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Activ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51480" y="26049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1560" y="1914480"/>
            <a:ext cx="3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98840" y="1792440"/>
                <a:ext cx="103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4025880" y="1495440"/>
            <a:ext cx="860400" cy="928800"/>
            <a:chOff x="4025880" y="1495440"/>
            <a:chExt cx="860400" cy="928800"/>
          </a:xfrm>
        </p:grpSpPr>
        <p:sp>
          <p:nvSpPr>
            <p:cNvPr id="97" name=""/>
            <p:cNvSpPr/>
            <p:nvPr/>
          </p:nvSpPr>
          <p:spPr>
            <a:xfrm>
              <a:off x="4327560" y="1495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25880" y="1706400"/>
              <a:ext cx="860400" cy="717840"/>
            </a:xfrm>
            <a:custGeom>
              <a:avLst/>
              <a:gdLst/>
              <a:ahLst/>
              <a:rect l="l" t="t" r="r" b="b"/>
              <a:pathLst>
                <a:path w="542" h="452">
                  <a:moveTo>
                    <a:pt x="542" y="0"/>
                  </a:moveTo>
                  <a:cubicBezTo>
                    <a:pt x="483" y="6"/>
                    <a:pt x="425" y="13"/>
                    <a:pt x="384" y="56"/>
                  </a:cubicBezTo>
                  <a:cubicBezTo>
                    <a:pt x="343" y="99"/>
                    <a:pt x="328" y="200"/>
                    <a:pt x="294" y="260"/>
                  </a:cubicBezTo>
                  <a:cubicBezTo>
                    <a:pt x="260" y="320"/>
                    <a:pt x="230" y="386"/>
                    <a:pt x="181" y="418"/>
                  </a:cubicBezTo>
                  <a:cubicBezTo>
                    <a:pt x="132" y="450"/>
                    <a:pt x="66" y="451"/>
                    <a:pt x="0" y="452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87720" y="1487520"/>
            <a:ext cx="4267080" cy="1039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7840" y="1506600"/>
            <a:ext cx="1440" cy="100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35480" y="1536840"/>
            <a:ext cx="1800" cy="9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9680" y="1506600"/>
            <a:ext cx="1148040" cy="4111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2400" y="2006640"/>
            <a:ext cx="1074600" cy="39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147680" y="2185560"/>
            <a:ext cx="104004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344600" y="2293920"/>
            <a:ext cx="1004760" cy="827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54800" y="1342800"/>
            <a:ext cx="1811160" cy="595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08800" y="2025720"/>
            <a:ext cx="1415880" cy="3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9720" y="2151000"/>
            <a:ext cx="1471680" cy="44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83160" y="2259000"/>
            <a:ext cx="1273320" cy="700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70240" y="5186520"/>
                <a:ext cx="2387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,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22F9-53EC-4C3E-BCFE-41E11037D2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ções de Act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eguem-se obter comportamentos bastante diferentes escolhendo diferentes funções de activação para os neurón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umas funções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gm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51120" y="2679840"/>
                <a:ext cx="21924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&lt;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732040" y="3763800"/>
                <a:ext cx="23986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95760" y="5186520"/>
                <a:ext cx="21081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moi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6167520" y="2050920"/>
            <a:ext cx="2236680" cy="1472760"/>
            <a:chOff x="6167520" y="2050920"/>
            <a:chExt cx="2236680" cy="1472760"/>
          </a:xfrm>
        </p:grpSpPr>
        <p:sp>
          <p:nvSpPr>
            <p:cNvPr id="117" name=""/>
            <p:cNvSpPr/>
            <p:nvPr/>
          </p:nvSpPr>
          <p:spPr>
            <a:xfrm>
              <a:off x="6167520" y="3065400"/>
              <a:ext cx="2008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047000" y="2168640"/>
              <a:ext cx="1440" cy="123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67520" y="2050920"/>
              <a:ext cx="3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39160" y="3152880"/>
              <a:ext cx="365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77280" y="2230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140520" y="4275000"/>
            <a:ext cx="2008080" cy="18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020000" y="3594240"/>
            <a:ext cx="1440" cy="12398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40520" y="3476520"/>
            <a:ext cx="3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12160" y="43624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69360" y="36752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122880" y="5035680"/>
            <a:ext cx="2236680" cy="1472400"/>
            <a:chOff x="6122880" y="5035680"/>
            <a:chExt cx="2236680" cy="1472400"/>
          </a:xfrm>
        </p:grpSpPr>
        <p:sp>
          <p:nvSpPr>
            <p:cNvPr id="128" name=""/>
            <p:cNvSpPr/>
            <p:nvPr/>
          </p:nvSpPr>
          <p:spPr>
            <a:xfrm>
              <a:off x="6122880" y="6049800"/>
              <a:ext cx="200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002360" y="5153040"/>
              <a:ext cx="1800" cy="123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23240" y="5035680"/>
              <a:ext cx="3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94520" y="6137280"/>
              <a:ext cx="365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2640" y="5214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284600" y="3071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88200" y="3054240"/>
            <a:ext cx="10224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7640" y="2413080"/>
            <a:ext cx="180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4120" y="242568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37280" y="45385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73720" y="4737240"/>
            <a:ext cx="749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23240" y="3848040"/>
            <a:ext cx="749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23240" y="3835440"/>
            <a:ext cx="14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2040" y="5334120"/>
            <a:ext cx="1498680" cy="725400"/>
          </a:xfrm>
          <a:custGeom>
            <a:avLst/>
            <a:gdLst/>
            <a:ahLst/>
            <a:rect l="l" t="t" r="r" b="b"/>
            <a:pathLst>
              <a:path w="944" h="457">
                <a:moveTo>
                  <a:pt x="0" y="452"/>
                </a:moveTo>
                <a:cubicBezTo>
                  <a:pt x="84" y="454"/>
                  <a:pt x="168" y="457"/>
                  <a:pt x="228" y="452"/>
                </a:cubicBezTo>
                <a:cubicBezTo>
                  <a:pt x="288" y="447"/>
                  <a:pt x="326" y="434"/>
                  <a:pt x="360" y="420"/>
                </a:cubicBezTo>
                <a:cubicBezTo>
                  <a:pt x="394" y="406"/>
                  <a:pt x="415" y="390"/>
                  <a:pt x="432" y="368"/>
                </a:cubicBezTo>
                <a:cubicBezTo>
                  <a:pt x="449" y="346"/>
                  <a:pt x="458" y="312"/>
                  <a:pt x="464" y="288"/>
                </a:cubicBezTo>
                <a:cubicBezTo>
                  <a:pt x="470" y="264"/>
                  <a:pt x="465" y="245"/>
                  <a:pt x="468" y="224"/>
                </a:cubicBezTo>
                <a:cubicBezTo>
                  <a:pt x="471" y="203"/>
                  <a:pt x="472" y="181"/>
                  <a:pt x="480" y="164"/>
                </a:cubicBezTo>
                <a:cubicBezTo>
                  <a:pt x="488" y="147"/>
                  <a:pt x="499" y="135"/>
                  <a:pt x="516" y="120"/>
                </a:cubicBezTo>
                <a:cubicBezTo>
                  <a:pt x="533" y="105"/>
                  <a:pt x="543" y="93"/>
                  <a:pt x="580" y="76"/>
                </a:cubicBezTo>
                <a:cubicBezTo>
                  <a:pt x="617" y="59"/>
                  <a:pt x="675" y="33"/>
                  <a:pt x="736" y="20"/>
                </a:cubicBezTo>
                <a:cubicBezTo>
                  <a:pt x="797" y="7"/>
                  <a:pt x="870" y="3"/>
                  <a:pt x="9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2751-8259-433C-ACE5-E503CAB05A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ções de Activação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unidades podem t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reshol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que representam o valor mínimo da soma pesada do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que activa o neuró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mbém existem versões com thresholds para as funçõ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gmo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maioria dos casos tratam-se os thresholds como uma unidade de entrada ex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 unidade tem uma activaç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xa e igual a –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peso da sua ligaç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,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igual a –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 este tipo de aproximação podemos ter unidades com um threshold fixo em zero (pois o threshold que pretendemos é tratado como um peso ext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maticamente tem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47600" y="5803920"/>
                <a:ext cx="7088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te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te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m que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t</m:t>
                    </m:r>
                    <m:r>
                      <m:rPr>
                        <m:lit/>
                        <m:nor/>
                      </m:rPr>
                      <m:t xml:space="preserve">  e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BFC2-B11A-4318-BA1B-3F4D511823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es de Unidades Computacionais (redes neuronais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incipal distinção entre os diferentes tipos de redes que existem 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es do tip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eed-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es em que as ligações são unidireccionais (das entradas para as saídas) e não existem cic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es recor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es com ligações de forma arbitr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mente as redes estruturam-se em cam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a rede em camada do tip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eed-forw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da unidade está ligada somente às unidades da camada seguinte. Não existem ligações entre unidades da mesma camada e de camada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do ao possível feed-back existente nas redes recorrentes, elas são potencialmente mais instáveis, podendo oscilar e exibir um comportamento caótico. Normalmente, levam mais tempo a convergir para um output estável dado um input que lhes seja apre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5770-57D6-4818-80D7-CFFC898AFA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eed-forwa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3411360"/>
            <a:ext cx="914400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m redes que não têm unidades “escondidas”. Estas redes chamam-se “perceptron network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endizagem simples mas limitações ao nível daquilo que podem apr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Às redes com unidades escondidas chamam-se redes multi-camada (“multilayer network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fixarmos a estrutura e as funções de activação podemos representar matematicamente o output de uma re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88960" y="2328840"/>
            <a:ext cx="501840" cy="44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9600" y="1335240"/>
            <a:ext cx="501480" cy="44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33480" y="137808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43200" y="237168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47440" y="120024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92200" y="156672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54520" y="2313000"/>
            <a:ext cx="538200" cy="501480"/>
            <a:chOff x="3854520" y="2313000"/>
            <a:chExt cx="538200" cy="501480"/>
          </a:xfrm>
        </p:grpSpPr>
        <p:sp>
          <p:nvSpPr>
            <p:cNvPr id="156" name=""/>
            <p:cNvSpPr/>
            <p:nvPr/>
          </p:nvSpPr>
          <p:spPr>
            <a:xfrm>
              <a:off x="3911760" y="2382840"/>
              <a:ext cx="407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54520" y="2313000"/>
              <a:ext cx="538200" cy="501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88000" y="1784520"/>
            <a:ext cx="538200" cy="501480"/>
            <a:chOff x="6588000" y="1784520"/>
            <a:chExt cx="538200" cy="501480"/>
          </a:xfrm>
        </p:grpSpPr>
        <p:sp>
          <p:nvSpPr>
            <p:cNvPr id="159" name=""/>
            <p:cNvSpPr/>
            <p:nvPr/>
          </p:nvSpPr>
          <p:spPr>
            <a:xfrm>
              <a:off x="6638760" y="1835280"/>
              <a:ext cx="420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88000" y="1784520"/>
              <a:ext cx="538200" cy="501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46600" y="1228680"/>
            <a:ext cx="538200" cy="501840"/>
            <a:chOff x="3846600" y="1228680"/>
            <a:chExt cx="538200" cy="501840"/>
          </a:xfrm>
        </p:grpSpPr>
        <p:sp>
          <p:nvSpPr>
            <p:cNvPr id="162" name=""/>
            <p:cNvSpPr/>
            <p:nvPr/>
          </p:nvSpPr>
          <p:spPr>
            <a:xfrm>
              <a:off x="3903840" y="1298520"/>
              <a:ext cx="407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46600" y="1228680"/>
              <a:ext cx="538200" cy="5018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025720" y="1523880"/>
            <a:ext cx="1739880" cy="18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25720" y="1612800"/>
            <a:ext cx="1668240" cy="8971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025720" y="1701360"/>
            <a:ext cx="1703160" cy="792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25720" y="2617920"/>
            <a:ext cx="1668240" cy="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8000" y="1452600"/>
            <a:ext cx="1954080" cy="5191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446720" y="2149200"/>
            <a:ext cx="2008080" cy="398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63560" y="259884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0" y="198108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03440" y="126216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19360" y="243540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4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8600" y="29462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npu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9200" y="297324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Hidden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5280" y="29541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utpu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09600" y="6159600"/>
                <a:ext cx="8688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,5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,5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=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,5</m:t>
                            </m:r>
                          </m:sub>
                        </m:sSub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,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,5</m:t>
                            </m:r>
                          </m:sub>
                        </m:sSub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,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,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8598-EAB9-43C2-9621-01793482B5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ceptro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3859200"/>
            <a:ext cx="914400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senblatt (1958) introduziu as redes d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ceptr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Este trabalho foi extendido por Minsky e Papert (196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a unidade de output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em a sua activação obti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27240" y="125568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7240" y="164160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27240" y="202716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27240" y="318456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7240" y="2413080"/>
            <a:ext cx="37620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7240" y="2798640"/>
            <a:ext cx="376200" cy="32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92280" y="1487520"/>
            <a:ext cx="393840" cy="377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2280" y="1952640"/>
            <a:ext cx="393840" cy="377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2000" y="2419200"/>
            <a:ext cx="393480" cy="3780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2000" y="2886120"/>
            <a:ext cx="393480" cy="377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5520" y="1380960"/>
            <a:ext cx="914400" cy="2318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5520" y="1380960"/>
            <a:ext cx="896760" cy="6811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95520" y="1380960"/>
            <a:ext cx="931680" cy="1182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5520" y="1398600"/>
            <a:ext cx="914400" cy="1631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595520" y="1665360"/>
            <a:ext cx="879480" cy="11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95520" y="1774800"/>
            <a:ext cx="879480" cy="322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95520" y="1792440"/>
            <a:ext cx="896760" cy="7538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5520" y="1792440"/>
            <a:ext cx="879480" cy="1201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95520" y="1719360"/>
            <a:ext cx="842760" cy="433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595520" y="2114280"/>
            <a:ext cx="879480" cy="20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5520" y="2151000"/>
            <a:ext cx="896760" cy="430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95520" y="2133720"/>
            <a:ext cx="879480" cy="877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595520" y="1755720"/>
            <a:ext cx="879480" cy="773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595520" y="2168640"/>
            <a:ext cx="860400" cy="379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95520" y="2527200"/>
            <a:ext cx="914400" cy="9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95520" y="2546280"/>
            <a:ext cx="879480" cy="484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595520" y="1809720"/>
            <a:ext cx="879480" cy="11145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595520" y="2220480"/>
            <a:ext cx="860400" cy="6858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95520" y="2669760"/>
            <a:ext cx="879480" cy="236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520" y="2922480"/>
            <a:ext cx="879480" cy="125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95520" y="1844640"/>
            <a:ext cx="860400" cy="14558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595520" y="2257560"/>
            <a:ext cx="860400" cy="1025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595520" y="2652840"/>
            <a:ext cx="879480" cy="630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595520" y="3117600"/>
            <a:ext cx="87948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97320" y="1300320"/>
            <a:ext cx="37656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97320" y="1685880"/>
            <a:ext cx="37656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7320" y="2071800"/>
            <a:ext cx="37656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97320" y="3228840"/>
            <a:ext cx="376560" cy="32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97320" y="2457360"/>
            <a:ext cx="37656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7320" y="2843280"/>
            <a:ext cx="376560" cy="322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34080" y="2212920"/>
            <a:ext cx="393840" cy="3780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75320" y="1434960"/>
            <a:ext cx="1093680" cy="932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75320" y="1828800"/>
            <a:ext cx="1041480" cy="5205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75320" y="2205000"/>
            <a:ext cx="1022400" cy="144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75320" y="2419200"/>
            <a:ext cx="1041480" cy="18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75320" y="2490840"/>
            <a:ext cx="1058760" cy="487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75320" y="2544480"/>
            <a:ext cx="1058760" cy="80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49600" y="5195880"/>
                <a:ext cx="32796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=ste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te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A151-CE9E-42F3-9028-0AEF53679B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 que as redes de perceptrons podem repres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 este tipo de arquitecturas conseguem-se representar certas classes de funções boole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erceptrons estão limitados a funções linearmente separ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m perceptron dá como output 1 se e só s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caso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 plano a separar o ouput 1 de 0 é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e um algoritmo de aprendizagem para os perceptrons que garante que é possível aprender qualquer função linearmente separável, desde que existam exemplos sufic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7480" y="2203200"/>
            <a:ext cx="1800" cy="12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4240" y="3400560"/>
            <a:ext cx="1590840" cy="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8840" y="212724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9480" y="34704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5800" y="240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3760" y="339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6440" y="3317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640" y="2523960"/>
            <a:ext cx="133560" cy="1238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7640" y="3333600"/>
            <a:ext cx="133560" cy="1238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33600" y="3343320"/>
            <a:ext cx="133200" cy="1238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04800" y="2523960"/>
            <a:ext cx="133560" cy="1238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680" y="2171880"/>
            <a:ext cx="1618920" cy="135252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118040" y="2260080"/>
            <a:ext cx="1440" cy="12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3457440"/>
            <a:ext cx="1590840" cy="18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9400" y="218448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0040" y="352728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360" y="246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63960" y="345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7000" y="337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48200" y="2581200"/>
            <a:ext cx="133200" cy="1238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48200" y="3390840"/>
            <a:ext cx="133200" cy="1238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33800" y="3400560"/>
            <a:ext cx="133560" cy="1238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05360" y="2581200"/>
            <a:ext cx="133200" cy="1238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81440" y="2781360"/>
            <a:ext cx="1333440" cy="1114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13720" y="2231640"/>
            <a:ext cx="1440" cy="12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10480" y="3429000"/>
            <a:ext cx="1590480" cy="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54720" y="215568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45720" y="349884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2040" y="243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9640" y="3422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02320" y="3346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43880" y="2552760"/>
            <a:ext cx="133200" cy="1238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3880" y="3362400"/>
            <a:ext cx="133200" cy="1238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9480" y="3371760"/>
            <a:ext cx="133560" cy="1238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01040" y="2552760"/>
            <a:ext cx="133200" cy="1238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78680" y="2741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1720" y="3735360"/>
            <a:ext cx="875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1720" y="3747960"/>
            <a:ext cx="71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61320" y="3719520"/>
            <a:ext cx="81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xor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67C7-C224-4037-9245-FFD1D7CE76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s Torgo</dc:creator>
  <dc:description/>
  <dc:language>en-US</dc:language>
  <cp:lastModifiedBy>ltorgo</cp:lastModifiedBy>
  <cp:revision>0</cp:revision>
  <dc:subject/>
  <dc:title>Bases de Dados</dc:title>
</cp:coreProperties>
</file>