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6E71-1FEF-4C4E-BA19-EE1667D6E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25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961080"/>
            <a:ext cx="91425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A2E3-76E1-49E9-9C1F-B9751C520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04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23EA-0FF3-4B7B-B001-8D9D3A0E3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320" y="12952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2640" y="12952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9610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320" y="39610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2640" y="39610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A58C-5C9B-4BBB-B8D0-41094BEC8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2560" cy="51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256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-11520"/>
            <a:ext cx="9142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2560" cy="51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FF52-A2AD-4313-89AF-EBBA88916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04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961080"/>
            <a:ext cx="91425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25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961080"/>
            <a:ext cx="91425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04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320" y="12952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2640" y="12952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9610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320" y="39610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2640" y="39610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256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07D1-663A-4577-90C9-EAF4CDE35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3EED-EEE5-4236-AF65-252F7DC18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B45D-9626-470B-AE05-A2A477EBA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11520"/>
            <a:ext cx="9142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BBE4-9B43-45B8-B176-E6BE2340D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ADF80-C63B-43D1-BDA8-60D730894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04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CA05-BEB4-4222-97DB-EC4BEC47F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961080"/>
            <a:ext cx="91425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F8235-403C-40EF-9590-1A80A7195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256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33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644FFC-70D2-424C-BB42-89D10AEC6A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6507000"/>
            <a:ext cx="85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Luis To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0960" cy="114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los de Regres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uis To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torgo@liaad.up.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49280" y="6399000"/>
            <a:ext cx="65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culdade de Economi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idade do P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s problemas de regressão (múltipla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a definição in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licação de métodos com o objectivo de estudar a relação entre uma variável dependente (objectivo, variável de saída) e um conjunto de variáveis independentes (atributos, variáveis de entr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estudo é normalmente levado a cabo usando uma amostra “pré-classificada” de objectos (isto é, trata-se de uma problema de aprendizagem supervision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os princip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Entend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lhor o fenómeno em estu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azer previsõ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obre o valor da variável objectivo para observações futuras do mesmo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3779-8C85-48A5-B3A8-8490B2DAF39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 Problema em Jo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3025440"/>
            <a:ext cx="91440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er um modelo com base numa amostra de exemplos pertencentes a uma função de regressão desconhe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amostra de trein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 em notação matricial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, em qu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é uma matriz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é uma matriz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57120" y="1484280"/>
            <a:ext cx="2981520" cy="1246320"/>
            <a:chOff x="357120" y="1484280"/>
            <a:chExt cx="2981520" cy="1246320"/>
          </a:xfrm>
        </p:grpSpPr>
        <p:grpSp>
          <p:nvGrpSpPr>
            <p:cNvPr id="86" name=""/>
            <p:cNvGrpSpPr/>
            <p:nvPr/>
          </p:nvGrpSpPr>
          <p:grpSpPr>
            <a:xfrm>
              <a:off x="357120" y="1633680"/>
              <a:ext cx="2981520" cy="1096920"/>
              <a:chOff x="357120" y="1633680"/>
              <a:chExt cx="2981520" cy="1096920"/>
            </a:xfrm>
          </p:grpSpPr>
          <p:sp>
            <p:nvSpPr>
              <p:cNvPr id="87" name=""/>
              <p:cNvSpPr/>
              <p:nvPr/>
            </p:nvSpPr>
            <p:spPr>
              <a:xfrm>
                <a:off x="358920" y="1633680"/>
                <a:ext cx="1440" cy="10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92160" y="1633680"/>
                <a:ext cx="1440" cy="10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622520" y="1633680"/>
                <a:ext cx="1440" cy="10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879640" y="1633680"/>
                <a:ext cx="1800" cy="10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336840" y="1633680"/>
                <a:ext cx="1800" cy="10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57120" y="1830240"/>
                <a:ext cx="29782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480960" y="1484280"/>
              <a:ext cx="2808000" cy="11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X</a:t>
              </a:r>
              <a:r>
                <a:rPr b="0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.....                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23.4    56.3         .....                4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...        ....           .....                .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630600" y="1251000"/>
            <a:ext cx="4977000" cy="1450800"/>
            <a:chOff x="3630600" y="1251000"/>
            <a:chExt cx="4977000" cy="1450800"/>
          </a:xfrm>
        </p:grpSpPr>
        <p:grpSp>
          <p:nvGrpSpPr>
            <p:cNvPr id="95" name=""/>
            <p:cNvGrpSpPr/>
            <p:nvPr/>
          </p:nvGrpSpPr>
          <p:grpSpPr>
            <a:xfrm>
              <a:off x="6143760" y="1251000"/>
              <a:ext cx="2463840" cy="1450800"/>
              <a:chOff x="6143760" y="1251000"/>
              <a:chExt cx="2463840" cy="1450800"/>
            </a:xfrm>
          </p:grpSpPr>
          <p:sp>
            <p:nvSpPr>
              <p:cNvPr id="96" name=""/>
              <p:cNvSpPr/>
              <p:nvPr/>
            </p:nvSpPr>
            <p:spPr>
              <a:xfrm>
                <a:off x="6440400" y="1384200"/>
                <a:ext cx="1862280" cy="1128960"/>
              </a:xfrm>
              <a:custGeom>
                <a:avLst/>
                <a:gdLst/>
                <a:ahLst/>
                <a:rect l="l" t="t" r="r" b="b"/>
                <a:pathLst>
                  <a:path w="2104" h="824">
                    <a:moveTo>
                      <a:pt x="8" y="456"/>
                    </a:moveTo>
                    <a:cubicBezTo>
                      <a:pt x="4" y="404"/>
                      <a:pt x="0" y="352"/>
                      <a:pt x="56" y="312"/>
                    </a:cubicBezTo>
                    <a:cubicBezTo>
                      <a:pt x="112" y="272"/>
                      <a:pt x="280" y="192"/>
                      <a:pt x="344" y="216"/>
                    </a:cubicBezTo>
                    <a:cubicBezTo>
                      <a:pt x="408" y="240"/>
                      <a:pt x="376" y="440"/>
                      <a:pt x="440" y="456"/>
                    </a:cubicBezTo>
                    <a:cubicBezTo>
                      <a:pt x="504" y="472"/>
                      <a:pt x="648" y="264"/>
                      <a:pt x="728" y="312"/>
                    </a:cubicBezTo>
                    <a:cubicBezTo>
                      <a:pt x="808" y="360"/>
                      <a:pt x="856" y="664"/>
                      <a:pt x="920" y="744"/>
                    </a:cubicBezTo>
                    <a:cubicBezTo>
                      <a:pt x="984" y="824"/>
                      <a:pt x="1056" y="816"/>
                      <a:pt x="1112" y="792"/>
                    </a:cubicBezTo>
                    <a:cubicBezTo>
                      <a:pt x="1168" y="768"/>
                      <a:pt x="1232" y="696"/>
                      <a:pt x="1256" y="600"/>
                    </a:cubicBezTo>
                    <a:cubicBezTo>
                      <a:pt x="1280" y="504"/>
                      <a:pt x="1208" y="312"/>
                      <a:pt x="1256" y="216"/>
                    </a:cubicBezTo>
                    <a:cubicBezTo>
                      <a:pt x="1304" y="120"/>
                      <a:pt x="1440" y="48"/>
                      <a:pt x="1544" y="24"/>
                    </a:cubicBezTo>
                    <a:cubicBezTo>
                      <a:pt x="1648" y="0"/>
                      <a:pt x="1792" y="24"/>
                      <a:pt x="1880" y="72"/>
                    </a:cubicBezTo>
                    <a:cubicBezTo>
                      <a:pt x="1968" y="120"/>
                      <a:pt x="2040" y="248"/>
                      <a:pt x="2072" y="312"/>
                    </a:cubicBezTo>
                    <a:cubicBezTo>
                      <a:pt x="2104" y="376"/>
                      <a:pt x="2088" y="416"/>
                      <a:pt x="2072" y="456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6143760" y="125100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143760" y="2700360"/>
                <a:ext cx="24638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006440" y="1620720"/>
              <a:ext cx="160416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a50021"/>
                  </a:solidFill>
                  <a:latin typeface="Times New Roman"/>
                </a:rPr>
                <a:t>Ferramen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a50021"/>
                  </a:solidFill>
                  <a:latin typeface="Times New Roman"/>
                </a:rPr>
                <a:t>de Regress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30600" y="1835280"/>
              <a:ext cx="309600" cy="282600"/>
            </a:xfrm>
            <a:prstGeom prst="rightArrow">
              <a:avLst>
                <a:gd name="adj1" fmla="val 50000"/>
                <a:gd name="adj2" fmla="val 2738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13480" y="1835280"/>
              <a:ext cx="309600" cy="282600"/>
            </a:xfrm>
            <a:prstGeom prst="rightArrow">
              <a:avLst>
                <a:gd name="adj1" fmla="val 50000"/>
                <a:gd name="adj2" fmla="val 2738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29120" y="1312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193760" y="4164120"/>
                <a:ext cx="70614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,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, em que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é um vector de valores dos atributos 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é o respectivo valor da variável objectiv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C43B-146B-45EB-A70C-2486E494207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31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 método de aprendizagem pode ser visto como uma função que transforma um conjunto de dados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num modelo de regressão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r sua vez um modelo de regressão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.), é também uma função que transforma um vector de valores de atributos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num número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elação de regressão usualmente assumida pelos métodos 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 qu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é um modelo de regressão com parâmetros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ão erros de observ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malmente, o principal objectivo de um método de aprendizagem é obter os valores dos parâmetros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modo a minimizar um qualquer critério de prefer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0A6F-63C3-48DC-8A84-F8C7451654B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térios de Preferê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rro de Prev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mais importante (normalmente) e o mais us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ante distinguir entre erro observado na amostra de treino e o erro obtido em amostras de teste separadas (estimativa mais fiáve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étodo experimental para obter estimativas fiáveis do er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étodo para comparar e aferir da significância estatística das diferenças eventualmente observ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pretabilidade dos mod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jectivo e difícil de medir/compa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xidade comput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álise teórica (análise da complexidade algorítim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ções do tempo de aprendizagem e t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acidade de compactação dos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princípio M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orpora a interpretabilidade (de alguma forma) e o erro numa só med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033E6-F711-4CFB-BD1F-140CAC00889E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das do erro de previsão para modelos de regressão -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ean Squared Error (MSE)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oot Mean Squared Error (RMSE)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ean Absolute Error (MAE)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600280" y="1916280"/>
                <a:ext cx="32590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436840" y="3687840"/>
                <a:ext cx="3643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MS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36920" y="5450040"/>
                <a:ext cx="30430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0106-8F48-46C1-B5F7-FC235D2A407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das do erro de previsão para modelos de regressão -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rmalized (Relative) Mean Squared Error (NMSE)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rmalized (Relative) Mean Absolute Error (NMAE)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eficiente de corre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28800" y="3581280"/>
                <a:ext cx="30700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MA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624040" y="1724040"/>
                <a:ext cx="328464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MS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300560" y="4290840"/>
                <a:ext cx="4843440" cy="229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,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r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ba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num>
                      <m:den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  <m:r>
                                          <m:t xml:space="preserve">−</m:t>
                                        </m:r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r</m:t>
                                            </m:r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i</m:t>
                                                    </m:r>
                                                  </m:sub>
                                                </m:sSub>
                                              </m:e>
                                            </m:d>
                                          </m:e>
                                        </m:ba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5B28-188B-4660-BF0A-DDBF5A4D33C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Qual a melhor medid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medidas envolvendo erros quadrados amplificam os erros ma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é pode ser bom em domínios em que erros grandes são intoleráve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MSE não vem expresso nas unidades d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M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MAE não é tão sensível a erros gran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á uma melhor indicação do erro “típico” do modelo, pois trata todos os erros do mesmo modo e vem expresso nas mesmas unidades d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medidas relativas têm a vantagem da independência do domí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coeficiente de correlação é além disso invariante em relação a mudanças de esc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5E23-993F-4FF3-BDD4-BC43A30F5F25}" type="slidenum">
              <a:t>8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todologia experimental</a:t>
            </a:r>
            <a:br>
              <a:rPr sz="3200"/>
            </a:b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Como obter estimativas fiávei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a geral para todas as tarefas de construção de mode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étodos com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old Cross Valid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tipicamente 10-fold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strap (mais adequado para amostras pequena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ldo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adequado e suficiente para amostras muito grandes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ata min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mais correntemente us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-fold C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gnificância das diferenças de erro médio entre dois métodos, aferida usand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aired t-tes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ilcoxon sign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6B12-B7CC-49EE-8583-9A303D8C3D01}" type="slidenum">
              <a:t>9</a:t>
            </a:fld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is Torgo</dc:creator>
  <dc:description/>
  <dc:language>en-US</dc:language>
  <cp:lastModifiedBy>ltorgo</cp:lastModifiedBy>
  <cp:revision>0</cp:revision>
  <dc:subject/>
  <dc:title>Bases de Dados</dc:title>
</cp:coreProperties>
</file>